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push.wav" ContentType="audio/x-wav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png" ContentType="image/png"/>
  <Override PartName="/ppt/media/image13.jpeg" ContentType="image/jpeg"/>
  <Override PartName="/ppt/media/image24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Click to move the slide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65FB-FBCF-40CA-9115-A406611FD9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99D8-B8D6-4A01-84E4-F4BF7EE260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225-8B23-4EB8-A2B5-5017D522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4D5-DAE4-4D22-BBB0-67AF538B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BD9-C9E6-468F-BF3D-FD5B2E87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8C2-953B-4261-B8AC-17D49A86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33A2-97B8-4125-B560-46E03AD5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DEE6-094F-4F69-9ED7-2A67828E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B673-F01C-4574-B076-6815D245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9208-1ED3-440F-BF9E-DCB1147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0E11-D629-4911-BF77-F70348F1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2B80-3A0D-436A-882E-2C37067A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87BA-BCDC-471C-8D29-6D472F7F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597-337D-4EFA-8951-4A329BCD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AE2C-0C5A-4B5D-82E5-DE608670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36A7-1F5B-4ECF-BE8F-CE1916F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4249-2DFA-479A-8002-10B54301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D5B7-6EFB-4E73-911D-62D3A8B3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BB15-C545-4948-9CDD-AD338E4D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189D-0065-4521-8697-C17CE485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089B-526C-4579-A377-E22486D7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B234-135E-43E0-80A1-175A63AD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82BE-AE9A-4D67-B078-B1D71EA2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5057-1665-457B-B8B4-A0F16CC3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D65-34CD-43BE-9176-A76712E5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3891-4012-4A73-84BE-235CD80B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9510-BC62-4B49-8686-6595D060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3F10-D1F9-41F9-B595-5E54A423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1270-C14B-4AD3-A380-809219C0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1FC6-A272-4888-BDC7-D5522E4C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5773-560A-452B-A058-73902AB7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7C1C-79EE-433E-878B-47EBAE5C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9508-170F-44C0-8411-27F3DA70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B785-3803-4817-B3A6-D90DBF58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940B-0B68-44B6-B3EC-B5FFDE11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CA6-C079-4E7C-8153-8152ED78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B1372-6E6E-4A47-8817-100535B1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B825-B78A-4F51-BE34-E4E8B393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53FF-E22A-4346-A8AB-3D1AD763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EF160-2A7C-48D8-9342-598EECA5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139B-8562-43FB-AC9C-BAAA193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3DF7-9657-4B65-9BF6-BFA58445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19558-F63D-4C48-AC14-EF4BF23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FFEF7-B858-4106-BF5B-580EB92F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6BCE-9C00-46FE-B4A0-38086A44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514BA9-C385-467C-93C7-037B64676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A12-639B-4187-AB79-E905A196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42991E-4993-4101-8961-B4C2ACF9BB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C92686-5483-426B-A999-F30218927D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457DB7-D3BE-4A71-8925-5251FACDD3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6669F2-A1EA-4AA3-AB6F-3918157062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45F811-1CD5-4D1F-AB42-6F202058E1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79302F-E353-4222-8DD8-E1FBD1776B3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49C225-1265-41F3-A02F-45A45BC73E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CD5D9-DAFA-4B35-B94B-B1DF7308FD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871F6-2B22-4D32-AF44-608FFD9E71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840A03-C2EF-434A-9525-6A19FD578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1A0-4902-4DED-8557-BA546B32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E566C-F9B8-4CE4-BAF7-AA288B63CF0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2B2-53E2-46EB-B91C-F8150926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8C4-44A5-48ED-BC09-17EBCD36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4B7-64F2-4FD2-8565-1B1C927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1752480" cy="12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4FC2-0DCF-499F-BB4D-B7EEA624BC77}" type="datetime">
              <a:rPr b="1" lang="en-US" sz="2000" spc="-1" strike="noStrike">
                <a:solidFill>
                  <a:srgbClr val="ffffff"/>
                </a:solidFill>
                <a:latin typeface="Andy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7E64-D04A-4C58-80F6-2719F46692F4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C7A8-554D-4FF8-B77E-B283D01A5581}" type="datetime">
              <a:rPr b="0" lang="en-US" sz="2400" spc="-1" strike="noStrike">
                <a:solidFill>
                  <a:srgbClr val="ffffff"/>
                </a:solidFill>
                <a:latin typeface="Andy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8C03-17B4-4266-AA47-3DAF3C47B779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333600"/>
            <a:ext cx="4419720" cy="3144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90504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35756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4" marL="181044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5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6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43FD-7BFA-4891-B353-9D36CC299355}" type="datetime">
              <a:rPr b="1" lang="en-US" sz="2000" spc="-1" strike="noStrike">
                <a:solidFill>
                  <a:srgbClr val="ffffff"/>
                </a:solidFill>
                <a:latin typeface="Andy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4C1A-7647-455F-A7CE-87F98A1E42B7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78560" y="3886200"/>
            <a:ext cx="1765440" cy="22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1520" y="2438280"/>
            <a:ext cx="292248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4E94-3BDD-418E-AD28-BC39518CB662}" type="datetime">
              <a:rPr b="0" lang="en-US" sz="2400" spc="-1" strike="noStrike">
                <a:solidFill>
                  <a:srgbClr val="ffffff"/>
                </a:solidFill>
                <a:latin typeface="Andy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6611-8553-44C6-95DB-1B40045BBFB0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ndy"/>
            </a:endParaRPr>
          </a:p>
          <a:p>
            <a:pPr lvl="1" marL="4068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1360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22040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4" marL="162756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5" marL="162756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6" marL="162756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traight Connector 30" descr=""/>
          <p:cNvPicPr/>
          <p:nvPr/>
        </p:nvPicPr>
        <p:blipFill>
          <a:blip r:embed="rId2"/>
          <a:stretch/>
        </p:blipFill>
        <p:spPr>
          <a:xfrm>
            <a:off x="-6480" y="6248520"/>
            <a:ext cx="9163080" cy="79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25440" y="649440"/>
            <a:ext cx="70182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3960" y="2495520"/>
            <a:ext cx="85917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266760">
              <a:spcBef>
                <a:spcPts val="550"/>
              </a:spcBef>
              <a:buClr>
                <a:srgbClr val="ffc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50800" indent="-280800">
              <a:spcBef>
                <a:spcPts val="550"/>
              </a:spcBef>
              <a:buClr>
                <a:srgbClr val="ffc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20800" indent="-268200"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62000" indent="-239760">
              <a:spcBef>
                <a:spcPts val="550"/>
              </a:spcBef>
              <a:buClr>
                <a:srgbClr val="ffc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62000" indent="-239760"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62000" indent="-239760"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3"/>
          </p:nvPr>
        </p:nvSpPr>
        <p:spPr>
          <a:xfrm>
            <a:off x="8481960" y="6378120"/>
            <a:ext cx="563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ADD-387B-4241-B4AB-656213EF4D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-34920"/>
            <a:ext cx="9144000" cy="211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8160" y="790560"/>
            <a:ext cx="9105840" cy="6067440"/>
            <a:chOff x="38160" y="790560"/>
            <a:chExt cx="9105840" cy="6067440"/>
          </a:xfrm>
        </p:grpSpPr>
        <p:pic>
          <p:nvPicPr>
            <p:cNvPr id="214" name="Picture 6" descr="Train gradient.jpg"/>
            <p:cNvPicPr/>
            <p:nvPr/>
          </p:nvPicPr>
          <p:blipFill>
            <a:blip r:embed="rId2"/>
            <a:stretch/>
          </p:blipFill>
          <p:spPr>
            <a:xfrm>
              <a:off x="38160" y="790560"/>
              <a:ext cx="9100080" cy="60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Straight Connector 8"/>
            <p:cNvSpPr/>
            <p:nvPr/>
          </p:nvSpPr>
          <p:spPr>
            <a:xfrm flipV="1">
              <a:off x="4304880" y="4748760"/>
              <a:ext cx="824760" cy="2376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70680" y="4597560"/>
              <a:ext cx="3973320" cy="18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55640" y="2806200"/>
            <a:ext cx="46897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000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70000" algn="ctr">
              <a:spcBef>
                <a:spcPts val="451"/>
              </a:spcBef>
              <a:buClr>
                <a:srgbClr val="ffc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85640" indent="66960" algn="ctr"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41240" indent="81000" algn="ctr">
              <a:spcBef>
                <a:spcPts val="400"/>
              </a:spcBef>
              <a:buClr>
                <a:srgbClr val="ffc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41240" indent="81000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41240" indent="81000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71640" y="549360"/>
            <a:ext cx="575928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Daily life situations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 rot="1388400">
            <a:off x="1171080" y="3236760"/>
            <a:ext cx="464832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Saying goodbye</a:t>
            </a:r>
            <a:endParaRPr b="0" lang="en-US" sz="60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lu"/>
    <p:sndAc>
      <p:stSnd>
        <p:snd r:embed="rId1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179280" y="765000"/>
            <a:ext cx="5077080" cy="4953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3995640" y="62064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LICE CAR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823" r="0" b="0"/>
          <a:stretch/>
        </p:blipFill>
        <p:spPr>
          <a:xfrm>
            <a:off x="0" y="1397160"/>
            <a:ext cx="7458120" cy="4336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3348000" y="62064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TORBIKE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750" r="0" b="0"/>
          <a:stretch/>
        </p:blipFill>
        <p:spPr>
          <a:xfrm>
            <a:off x="179280" y="969840"/>
            <a:ext cx="7458120" cy="4764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3348000" y="62064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RPLANE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448160" y="1916280"/>
            <a:ext cx="4695840" cy="4941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1042920" y="98100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chool bus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0" y="801720"/>
            <a:ext cx="4284720" cy="49528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3851280" y="62064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cycle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5003640" cy="354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push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585" t="722" r="0" b="0"/>
          <a:stretch/>
        </p:blipFill>
        <p:spPr>
          <a:xfrm>
            <a:off x="0" y="765000"/>
            <a:ext cx="6659640" cy="4953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140360" y="134136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RRY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7561440" cy="4869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859280" y="386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LICOPTER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6769080" cy="5113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780000" y="620640"/>
            <a:ext cx="48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IP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95280" y="476280"/>
            <a:ext cx="61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cc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O can drive a bus?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cc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867280" cy="3654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932360" y="1844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bus driver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68360" y="333360"/>
            <a:ext cx="61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cc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O can drive a taxi?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cc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9280" y="1544760"/>
            <a:ext cx="5832720" cy="4189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932360" y="1844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taxi driver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743" r="0" b="0"/>
          <a:stretch/>
        </p:blipFill>
        <p:spPr>
          <a:xfrm>
            <a:off x="0" y="927000"/>
            <a:ext cx="6588000" cy="4807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 rot="1388400">
            <a:off x="5076360" y="404640"/>
            <a:ext cx="385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t the school</a:t>
            </a:r>
            <a:endParaRPr b="0" lang="en-US" sz="60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260280"/>
            <a:ext cx="3348000" cy="792360"/>
            <a:chOff x="0" y="260280"/>
            <a:chExt cx="3348000" cy="792360"/>
          </a:xfrm>
        </p:grpSpPr>
        <p:sp>
          <p:nvSpPr>
            <p:cNvPr id="267" name=""/>
            <p:cNvSpPr/>
            <p:nvPr/>
          </p:nvSpPr>
          <p:spPr>
            <a:xfrm>
              <a:off x="0" y="260280"/>
              <a:ext cx="3348000" cy="792360"/>
            </a:xfrm>
            <a:prstGeom prst="wedgeEllipseCallout">
              <a:avLst>
                <a:gd name="adj1" fmla="val -4384"/>
                <a:gd name="adj2" fmla="val 86874"/>
              </a:avLst>
            </a:prstGeom>
            <a:solidFill>
              <a:srgbClr val="f4b942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5280" y="404640"/>
              <a:ext cx="26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TAKE CARE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700360" y="1052640"/>
            <a:ext cx="2520720" cy="863640"/>
            <a:chOff x="2700360" y="1052640"/>
            <a:chExt cx="2520720" cy="863640"/>
          </a:xfrm>
        </p:grpSpPr>
        <p:sp>
          <p:nvSpPr>
            <p:cNvPr id="270" name=""/>
            <p:cNvSpPr/>
            <p:nvPr/>
          </p:nvSpPr>
          <p:spPr>
            <a:xfrm>
              <a:off x="2700360" y="1052640"/>
              <a:ext cx="2520720" cy="863640"/>
            </a:xfrm>
            <a:prstGeom prst="wedgeEllipseCallout">
              <a:avLst>
                <a:gd name="adj1" fmla="val -3717"/>
                <a:gd name="adj2" fmla="val 75550"/>
              </a:avLst>
            </a:prstGeom>
            <a:solidFill>
              <a:srgbClr val="ffff99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6520" y="1197000"/>
              <a:ext cx="225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0066"/>
                  </a:solidFill>
                  <a:latin typeface="Arial"/>
                </a:rPr>
                <a:t>GOODBY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  <p:sndAc>
      <p:stSnd>
        <p:snd r:embed="rId2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076720" y="191628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pilot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537080" cy="48182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68360" y="333360"/>
            <a:ext cx="74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cc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O can fly an aeroplane?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cc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 rot="1388400">
            <a:off x="5076360" y="549360"/>
            <a:ext cx="385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t a railway station</a:t>
            </a:r>
            <a:endParaRPr b="0" lang="en-US" sz="60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523" t="0" r="0" b="11544"/>
          <a:stretch/>
        </p:blipFill>
        <p:spPr>
          <a:xfrm>
            <a:off x="0" y="1322280"/>
            <a:ext cx="6554880" cy="441180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468360" y="404640"/>
            <a:ext cx="3240000" cy="1440000"/>
            <a:chOff x="468360" y="404640"/>
            <a:chExt cx="3240000" cy="1440000"/>
          </a:xfrm>
        </p:grpSpPr>
        <p:sp>
          <p:nvSpPr>
            <p:cNvPr id="275" name=""/>
            <p:cNvSpPr/>
            <p:nvPr/>
          </p:nvSpPr>
          <p:spPr>
            <a:xfrm>
              <a:off x="468360" y="404640"/>
              <a:ext cx="3240000" cy="1440000"/>
            </a:xfrm>
            <a:prstGeom prst="wedgeEllipseCallout">
              <a:avLst>
                <a:gd name="adj1" fmla="val -29666"/>
                <a:gd name="adj2" fmla="val 93439"/>
              </a:avLst>
            </a:prstGeom>
            <a:solidFill>
              <a:srgbClr val="f4b942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8720" y="549360"/>
              <a:ext cx="244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I WILL MISS YOU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826080" y="669600"/>
            <a:ext cx="3579120" cy="2207160"/>
            <a:chOff x="3826080" y="669600"/>
            <a:chExt cx="3579120" cy="2207160"/>
          </a:xfrm>
        </p:grpSpPr>
        <p:sp>
          <p:nvSpPr>
            <p:cNvPr id="278" name=""/>
            <p:cNvSpPr/>
            <p:nvPr/>
          </p:nvSpPr>
          <p:spPr>
            <a:xfrm rot="1419600">
              <a:off x="3850920" y="1341360"/>
              <a:ext cx="3529080" cy="863640"/>
            </a:xfrm>
            <a:prstGeom prst="wedgeEllipseCallout">
              <a:avLst>
                <a:gd name="adj1" fmla="val 5263"/>
                <a:gd name="adj2" fmla="val 98240"/>
              </a:avLst>
            </a:prstGeom>
            <a:solidFill>
              <a:srgbClr val="ffff99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506600">
              <a:off x="4354920" y="1484280"/>
              <a:ext cx="239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GOODBYE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  <p:sndAc>
      <p:stSnd>
        <p:snd r:embed="rId2" name="push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585" t="722" r="0" b="0"/>
          <a:stretch/>
        </p:blipFill>
        <p:spPr>
          <a:xfrm>
            <a:off x="0" y="765000"/>
            <a:ext cx="6516720" cy="4953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 rot="1388400">
            <a:off x="5076360" y="404640"/>
            <a:ext cx="385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t an airport</a:t>
            </a:r>
            <a:endParaRPr b="0" lang="en-US" sz="60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771640" y="692280"/>
            <a:ext cx="2592360" cy="1441440"/>
            <a:chOff x="2771640" y="692280"/>
            <a:chExt cx="2592360" cy="1441440"/>
          </a:xfrm>
        </p:grpSpPr>
        <p:sp>
          <p:nvSpPr>
            <p:cNvPr id="283" name=""/>
            <p:cNvSpPr/>
            <p:nvPr/>
          </p:nvSpPr>
          <p:spPr>
            <a:xfrm>
              <a:off x="2916000" y="692280"/>
              <a:ext cx="2305080" cy="1441440"/>
            </a:xfrm>
            <a:prstGeom prst="wedgeEllipseCallout">
              <a:avLst>
                <a:gd name="adj1" fmla="val -37050"/>
                <a:gd name="adj2" fmla="val 88324"/>
              </a:avLst>
            </a:prstGeom>
            <a:solidFill>
              <a:srgbClr val="f4b942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1640" y="907920"/>
              <a:ext cx="259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SEE YOU LATER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024160" y="1295280"/>
            <a:ext cx="3057840" cy="1467360"/>
            <a:chOff x="5024160" y="1295280"/>
            <a:chExt cx="3057840" cy="1467360"/>
          </a:xfrm>
        </p:grpSpPr>
        <p:sp>
          <p:nvSpPr>
            <p:cNvPr id="286" name=""/>
            <p:cNvSpPr/>
            <p:nvPr/>
          </p:nvSpPr>
          <p:spPr>
            <a:xfrm rot="810000">
              <a:off x="5076720" y="1628640"/>
              <a:ext cx="2952720" cy="800280"/>
            </a:xfrm>
            <a:prstGeom prst="wedgeEllipseCallout">
              <a:avLst>
                <a:gd name="adj1" fmla="val -40620"/>
                <a:gd name="adj2" fmla="val 109319"/>
              </a:avLst>
            </a:prstGeom>
            <a:solidFill>
              <a:srgbClr val="ffff99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897000">
              <a:off x="5675400" y="1811880"/>
              <a:ext cx="210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BYE BYE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4360" y="476280"/>
            <a:ext cx="7791480" cy="28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ich means </a:t>
            </a:r>
            <a:endParaRPr b="0" lang="en-US" sz="6000" spc="1" strike="noStrike">
              <a:ln w="1908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f transport </a:t>
            </a:r>
            <a:endParaRPr b="0" lang="en-US" sz="6000" spc="1" strike="noStrike">
              <a:ln w="19080">
                <a:solidFill>
                  <a:srgbClr val="ff66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66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n we see in our streets?</a:t>
            </a:r>
            <a:endParaRPr b="0" lang="en-US" sz="6000" spc="1" strike="noStrike">
              <a:ln w="19080">
                <a:solidFill>
                  <a:srgbClr val="ff66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lu"/>
    <p:sndAc>
      <p:stSnd>
        <p:snd r:embed="rId7" name="pu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755640" y="47628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IN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716360" y="62064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R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7493040" cy="3691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510" t="777" r="0" b="0"/>
          <a:stretch/>
        </p:blipFill>
        <p:spPr>
          <a:xfrm>
            <a:off x="0" y="1341360"/>
            <a:ext cx="7021440" cy="4383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995640" y="54936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XI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585" t="0" r="0" b="0"/>
          <a:stretch/>
        </p:blipFill>
        <p:spPr>
          <a:xfrm>
            <a:off x="179280" y="744480"/>
            <a:ext cx="6121440" cy="4989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211640" y="62064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MBULANCE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45:09Z</dcterms:created>
  <dc:creator>Manager</dc:creator>
  <dc:description/>
  <dc:language>en-US</dc:language>
  <cp:lastModifiedBy> </cp:lastModifiedBy>
  <dcterms:modified xsi:type="dcterms:W3CDTF">2008-04-28T14:45:14Z</dcterms:modified>
  <cp:revision>32</cp:revision>
  <dc:subject/>
  <dc:title>Slide 1</dc:title>
</cp:coreProperties>
</file>