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50112-B847-43FF-A7C2-E67C7A4E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6EF7D-1ECB-4BB4-881C-4733F1F0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308DB-ACD0-4C83-A702-45764104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5687F-2315-404C-A8A5-8AC88735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0494-0197-42FA-BCB1-E574C936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0E13-ED2B-4FDB-A0A0-C08AEDB8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1386-9CA3-401E-A53B-A05DD11D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BD79-FEDE-41CC-9CE2-E4CAA1C2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5E0E-EE2E-44B4-956C-7B119576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267E-5AE1-4D42-B31F-98457C64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3757-AC21-4E61-BD26-109B4AA8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307A-5056-4F2E-948A-5BAEBF3F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7D66-A9A7-4ECE-A93B-D5F65193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EFCC-17A9-442C-B819-74054A28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144E-CB28-4186-BD3C-B2DE9578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19FC-6E94-4605-A2B8-381C2B09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DAD0-27EE-4C32-B3FE-B19373B6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48BB5-1D16-428B-A21A-2E4143DB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9CCB-FE1F-4FB2-A289-3D265EA4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F9401-E9BE-4EBC-ACF9-9D2752A0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D48A-8EAD-42EB-9E7D-9B9DFA52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F31D-CE9A-42C5-930B-D4558269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CB0F-24FE-4E8D-85A5-8F3A31F0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32889-E872-405C-923A-3486BE73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BF60-7DF8-442C-B94B-4C7CC79E1BC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5F7E-1E84-4665-BC3D-004F796D8B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549360"/>
            <a:ext cx="489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TOYS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59280" y="3429000"/>
            <a:ext cx="1766880" cy="266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292720" y="4005360"/>
            <a:ext cx="2994120" cy="2266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227640" y="333360"/>
            <a:ext cx="1833840" cy="2951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24000" y="3141720"/>
            <a:ext cx="2154240" cy="315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179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39640" y="549360"/>
            <a:ext cx="3816000" cy="2145960"/>
            <a:chOff x="539640" y="549360"/>
            <a:chExt cx="3816000" cy="2145960"/>
          </a:xfrm>
        </p:grpSpPr>
        <p:sp>
          <p:nvSpPr>
            <p:cNvPr id="182" name=""/>
            <p:cNvSpPr/>
            <p:nvPr/>
          </p:nvSpPr>
          <p:spPr>
            <a:xfrm>
              <a:off x="539640" y="549360"/>
              <a:ext cx="3816000" cy="214596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808000"/>
                </a:gs>
                <a:gs pos="50000">
                  <a:srgbClr val="ffffff"/>
                </a:gs>
                <a:gs pos="100000">
                  <a:srgbClr val="808000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14040" y="908280"/>
              <a:ext cx="2842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I AM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THE SOLDIER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55640" y="3068640"/>
            <a:ext cx="2087640" cy="3443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187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71640" y="333360"/>
            <a:ext cx="3456000" cy="2307960"/>
            <a:chOff x="971640" y="333360"/>
            <a:chExt cx="3456000" cy="2307960"/>
          </a:xfrm>
        </p:grpSpPr>
        <p:sp>
          <p:nvSpPr>
            <p:cNvPr id="190" name=""/>
            <p:cNvSpPr/>
            <p:nvPr/>
          </p:nvSpPr>
          <p:spPr>
            <a:xfrm>
              <a:off x="971640" y="333360"/>
              <a:ext cx="3456000" cy="230796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10760" y="719640"/>
              <a:ext cx="2574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I AM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THE ROBO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252396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195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68360" y="476280"/>
            <a:ext cx="3816000" cy="2145960"/>
            <a:chOff x="468360" y="476280"/>
            <a:chExt cx="3816000" cy="2145960"/>
          </a:xfrm>
        </p:grpSpPr>
        <p:sp>
          <p:nvSpPr>
            <p:cNvPr id="198" name=""/>
            <p:cNvSpPr/>
            <p:nvPr/>
          </p:nvSpPr>
          <p:spPr>
            <a:xfrm>
              <a:off x="468360" y="476280"/>
              <a:ext cx="3816000" cy="214596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800080"/>
                </a:gs>
                <a:gs pos="50000">
                  <a:srgbClr val="ffffff"/>
                </a:gs>
                <a:gs pos="100000">
                  <a:srgbClr val="800080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2760" y="835200"/>
              <a:ext cx="2842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I AM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THE PUPPE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835280" y="2637000"/>
            <a:ext cx="2195280" cy="4221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203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95280" y="476280"/>
            <a:ext cx="3671640" cy="2185560"/>
            <a:chOff x="395280" y="476280"/>
            <a:chExt cx="3671640" cy="2185560"/>
          </a:xfrm>
        </p:grpSpPr>
        <p:sp>
          <p:nvSpPr>
            <p:cNvPr id="206" name=""/>
            <p:cNvSpPr/>
            <p:nvPr/>
          </p:nvSpPr>
          <p:spPr>
            <a:xfrm>
              <a:off x="395280" y="476280"/>
              <a:ext cx="3671640" cy="218556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5640" y="84204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I AM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THE FAIR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187280" y="3141720"/>
            <a:ext cx="3457800" cy="3220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211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55640" y="692280"/>
            <a:ext cx="3671640" cy="1726920"/>
            <a:chOff x="755640" y="692280"/>
            <a:chExt cx="3671640" cy="1726920"/>
          </a:xfrm>
        </p:grpSpPr>
        <p:sp>
          <p:nvSpPr>
            <p:cNvPr id="214" name=""/>
            <p:cNvSpPr/>
            <p:nvPr/>
          </p:nvSpPr>
          <p:spPr>
            <a:xfrm>
              <a:off x="755640" y="692280"/>
              <a:ext cx="3671640" cy="172692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16000" y="98100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I AM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THE BIK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89040" y="3213000"/>
            <a:ext cx="338148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356000" y="3284640"/>
            <a:ext cx="1467000" cy="2952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340000" y="4581360"/>
            <a:ext cx="1827360" cy="1505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0" y="3068640"/>
            <a:ext cx="1776240" cy="2374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5867280" y="4221000"/>
            <a:ext cx="2808360" cy="2238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 rot="20130000">
            <a:off x="684360" y="620280"/>
            <a:ext cx="1465200" cy="2664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2340000" y="836640"/>
            <a:ext cx="54738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atisse ITC"/>
              </a:rPr>
              <a:t>WHICH IS YOUR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atisse ITC"/>
              <a:ea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atisse ITC"/>
              </a:rPr>
              <a:t>FAVOURITE TOY?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atisse ITC"/>
              <a:ea typeface="Matisse ITC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83 -0.04704 L 0.11944 0.35217 E">
                                      <p:cBhvr>
                                        <p:cTn id="207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971640" y="692280"/>
            <a:ext cx="6696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atisse ITC"/>
              </a:rPr>
              <a:t>MY FAVOURITE 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atisse ITC"/>
              <a:ea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atisse ITC"/>
              </a:rPr>
              <a:t>TOY IS the...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atisse ITC"/>
              <a:ea typeface="Matisse ITC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332000" y="3076560"/>
            <a:ext cx="6267240" cy="37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971640" y="692280"/>
            <a:ext cx="69850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atisse ITC"/>
              </a:rPr>
              <a:t>See you in the 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f8b049"/>
                  </a:gs>
                  <a:gs pos="100000">
                    <a:srgbClr val="fc9fc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atisse ITC"/>
              <a:ea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atisse ITC"/>
              </a:rPr>
              <a:t>toy world!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f8b049"/>
                  </a:gs>
                  <a:gs pos="100000">
                    <a:srgbClr val="fc9fc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atisse ITC"/>
              <a:ea typeface="Matisse ITC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392640" cy="310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11280" y="1197000"/>
            <a:ext cx="770400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atisse ITC"/>
              </a:rPr>
              <a:t>WHERE CAN YOU 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atisse ITC"/>
              <a:ea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atisse ITC"/>
              </a:rPr>
              <a:t>BUY TOYS?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atisse ITC"/>
              <a:ea typeface="Matisse ITC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0760" y="1144440"/>
            <a:ext cx="8572320" cy="5713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258920" y="260280"/>
            <a:ext cx="6697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istral"/>
              </a:rPr>
              <a:t>IN THE TOY SHOP!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48360" y="314172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684360" y="692280"/>
            <a:ext cx="6192720" cy="2089080"/>
            <a:chOff x="684360" y="692280"/>
            <a:chExt cx="6192720" cy="2089080"/>
          </a:xfrm>
        </p:grpSpPr>
        <p:sp>
          <p:nvSpPr>
            <p:cNvPr id="135" name=""/>
            <p:cNvSpPr/>
            <p:nvPr/>
          </p:nvSpPr>
          <p:spPr>
            <a:xfrm>
              <a:off x="684360" y="692280"/>
              <a:ext cx="6192720" cy="2089080"/>
            </a:xfrm>
            <a:prstGeom prst="wedgeEllipseCallout">
              <a:avLst>
                <a:gd name="adj1" fmla="val 34976"/>
                <a:gd name="adj2" fmla="val 84648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76360" y="1052640"/>
              <a:ext cx="504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800000"/>
                  </a:solidFill>
                  <a:latin typeface="Comic Sans MS"/>
                </a:rPr>
                <a:t>BOYS and GIRLS,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these</a:t>
              </a:r>
              <a:r>
                <a:rPr b="1" i="1" lang="es-ES_tradnl" sz="3600" spc="-1" strike="noStrike">
                  <a:solidFill>
                    <a:srgbClr val="800000"/>
                  </a:solidFill>
                  <a:latin typeface="Comic Sans MS"/>
                </a:rPr>
                <a:t> are our TOYS!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02 0.033 -0.05872 0.058 -0.05872 C 0.095 -0.05872 0.125 -0.02269 0.125 0.02269 C 0.125 0.03737 0.122 0.05071 0.116 0.06272 C 0.117 0.06272 0 0.24289 0 0.24423 C 0 0.24289 -0.117 0.06272 -0.116 0.06272 C -0.122 0.05071 -0.125 0.03737 -0.125 0.02269 C -0.125 -0.02269 -0.095 -0.05872 -0.057 -0.05872 C -0.033 -0.05872 -0.012 -0.02402 0 0 Z">
                                      <p:cBhvr>
                                        <p:cTn id="6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139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19666800">
            <a:off x="971280" y="3428640"/>
            <a:ext cx="2579760" cy="30243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611280" y="907920"/>
            <a:ext cx="3671640" cy="1727280"/>
            <a:chOff x="611280" y="907920"/>
            <a:chExt cx="3671640" cy="1727280"/>
          </a:xfrm>
        </p:grpSpPr>
        <p:sp>
          <p:nvSpPr>
            <p:cNvPr id="143" name=""/>
            <p:cNvSpPr/>
            <p:nvPr/>
          </p:nvSpPr>
          <p:spPr>
            <a:xfrm>
              <a:off x="611280" y="907920"/>
              <a:ext cx="3671640" cy="172728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00ccff"/>
                </a:gs>
                <a:gs pos="50000">
                  <a:srgbClr val="ffffff"/>
                </a:gs>
                <a:gs pos="100000">
                  <a:srgbClr val="00ccff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0000" y="112536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I AM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THE DOLL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147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11280" y="907920"/>
            <a:ext cx="3671640" cy="1773720"/>
            <a:chOff x="611280" y="907920"/>
            <a:chExt cx="3671640" cy="1773720"/>
          </a:xfrm>
        </p:grpSpPr>
        <p:sp>
          <p:nvSpPr>
            <p:cNvPr id="150" name=""/>
            <p:cNvSpPr/>
            <p:nvPr/>
          </p:nvSpPr>
          <p:spPr>
            <a:xfrm>
              <a:off x="611280" y="907920"/>
              <a:ext cx="3671640" cy="172728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00000" y="1125360"/>
              <a:ext cx="2735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00"/>
                  </a:solidFill>
                  <a:latin typeface="Comic Sans MS"/>
                </a:rPr>
                <a:t>I AM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00"/>
                  </a:solidFill>
                  <a:latin typeface="Comic Sans MS"/>
                </a:rPr>
                <a:t>THE TEDDY BEA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332000" y="3284640"/>
            <a:ext cx="251928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155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11280" y="836640"/>
            <a:ext cx="4105080" cy="1871640"/>
            <a:chOff x="611280" y="836640"/>
            <a:chExt cx="4105080" cy="1871640"/>
          </a:xfrm>
        </p:grpSpPr>
        <p:sp>
          <p:nvSpPr>
            <p:cNvPr id="158" name=""/>
            <p:cNvSpPr/>
            <p:nvPr/>
          </p:nvSpPr>
          <p:spPr>
            <a:xfrm>
              <a:off x="611280" y="836640"/>
              <a:ext cx="4105080" cy="1871640"/>
            </a:xfrm>
            <a:prstGeom prst="wedgeEllipseCallout">
              <a:avLst>
                <a:gd name="adj1" fmla="val -8893"/>
                <a:gd name="adj2" fmla="val 814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00000" y="1125360"/>
              <a:ext cx="345600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800" spc="-1" strike="noStrike">
                  <a:solidFill>
                    <a:srgbClr val="800000"/>
                  </a:solidFill>
                  <a:latin typeface="Comic Sans MS"/>
                </a:rPr>
                <a:t>I AM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800" spc="-1" strike="noStrike">
                  <a:solidFill>
                    <a:srgbClr val="800000"/>
                  </a:solidFill>
                  <a:latin typeface="Comic Sans MS"/>
                </a:rPr>
                <a:t>THE CLOWN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332000" y="3357720"/>
            <a:ext cx="228600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163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95280" y="1268280"/>
            <a:ext cx="3671640" cy="1727280"/>
            <a:chOff x="395280" y="1268280"/>
            <a:chExt cx="3671640" cy="1727280"/>
          </a:xfrm>
        </p:grpSpPr>
        <p:sp>
          <p:nvSpPr>
            <p:cNvPr id="166" name=""/>
            <p:cNvSpPr/>
            <p:nvPr/>
          </p:nvSpPr>
          <p:spPr>
            <a:xfrm>
              <a:off x="395280" y="1268280"/>
              <a:ext cx="3671640" cy="172728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5640" y="155736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I AM THE TRAI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6265800" cy="1962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171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95280" y="1268280"/>
            <a:ext cx="3671640" cy="1727280"/>
            <a:chOff x="395280" y="1268280"/>
            <a:chExt cx="3671640" cy="1727280"/>
          </a:xfrm>
        </p:grpSpPr>
        <p:sp>
          <p:nvSpPr>
            <p:cNvPr id="174" name=""/>
            <p:cNvSpPr/>
            <p:nvPr/>
          </p:nvSpPr>
          <p:spPr>
            <a:xfrm>
              <a:off x="395280" y="1268280"/>
              <a:ext cx="3671640" cy="172728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ff00ff"/>
                </a:gs>
                <a:gs pos="50000">
                  <a:srgbClr val="ffffff"/>
                </a:gs>
                <a:gs pos="100000">
                  <a:srgbClr val="ff00ff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5640" y="155736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I AM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THE BALL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2:44:39Z</dcterms:created>
  <dc:creator> </dc:creator>
  <dc:description/>
  <dc:language>en-US</dc:language>
  <cp:lastModifiedBy> </cp:lastModifiedBy>
  <dcterms:modified xsi:type="dcterms:W3CDTF">2008-04-16T16:38:15Z</dcterms:modified>
  <cp:revision>16</cp:revision>
  <dc:subject/>
  <dc:title>Diapositiva 1</dc:title>
</cp:coreProperties>
</file>