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10.wmf" ContentType="image/x-wmf"/>
  <Override PartName="/ppt/media/image8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click.wav" ContentType="audio/x-wav"/>
  <Override PartName="/ppt/media/image3.jpeg" ContentType="image/jpeg"/>
  <Override PartName="/ppt/media/image24.wmf" ContentType="image/x-wmf"/>
  <Override PartName="/ppt/media/image22.wmf" ContentType="image/x-wmf"/>
  <Override PartName="/ppt/media/image21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7.jpeg" ContentType="image/jpeg"/>
  <Override PartName="/ppt/media/image14.jpeg" ContentType="image/jpeg"/>
  <Override PartName="/ppt/media/wind.wav" ContentType="audio/x-wav"/>
  <Override PartName="/ppt/media/image1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EF99-DA48-4B4E-8F25-1EED574B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805-05C7-41FB-A393-3E1BDD6C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5C4-07AC-46EE-B935-5D5EA68F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188-D0AF-4954-80AC-12A2991C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6934320" cy="12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422-A11A-403C-96E0-409BCC3F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4979-9BDD-4016-A80D-91689FC6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74C6-8673-44B1-943D-D1E2477B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2E6F-01D0-4A2B-808F-A2BA622A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6CF6-8382-44B1-911F-ADF272CE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CBB9-F819-4503-9EDC-FEDD7356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384-A64B-4FB2-9BDB-DF1E1F4E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6934320" cy="12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DD31-929E-43DC-90B3-50160D03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FB86-7D47-4947-95EA-D729BD9C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0615-ED6C-412F-97A4-7736D0B0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0BDA-C3DB-4F1D-97E4-950E5A33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CDC1-DFE4-4376-BF09-81EBBE8A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F246-8A4F-4507-AE01-C6146B99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556E-DEA7-499F-8D30-4C99C468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1E7-6C1D-44C3-9F67-293C5411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6934320" cy="12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6379D-1C0F-4A7E-9272-AC956EF7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04B-8512-4D24-824E-91143B27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4641D-2F21-4892-8FC7-9E2360C1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13B5E-3C67-4351-9203-B9010C3D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87B11-6C42-49EC-A7E7-3D6CC8AA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08741-EB6A-4173-9D88-0D0BB710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6934320" cy="12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C95E3-39D7-41C1-932A-2421DCE7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3D1B3-ABBB-4F78-A393-D0728BE7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C17E7-DBBC-4A93-B96C-316F0EC5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284BC-D256-4C5A-8D90-6F99F197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DFBAD-A8CC-4AA9-9985-BF0B515E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3412D-8D90-43CD-B67F-101A606F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6934320" cy="12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5FF-D07C-4399-B619-A83EC4F2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3556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69988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37160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3556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69988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119A1-6CFC-47FE-8C54-8B6010AC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1A8EB-0937-42E4-BD16-D25901B7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079D6-780E-49BB-BDFC-C933684E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A49C9-22BA-40D5-B0AD-A3CACB93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1001D-5556-4838-84DE-12A8F51B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C1628-BE48-4DCE-89B2-4B2383E6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6934320" cy="12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77EC1-6FA5-4E81-9B7D-4EC8C59B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01780-CBE3-4737-86CF-77E86A89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F9001-AFEE-4A25-89DE-205EE38F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F7178-5D5C-4F38-9321-3A14CFCE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713-5B4F-48B7-8E62-183898D6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C3121-D00C-47BF-A716-8C2D0EA8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E27E0-F3C4-4196-A3DB-D627292B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3556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69988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37160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53556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69988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E5DE6-022A-49BE-8EDF-1A4D730B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A1E-717D-4EB0-B240-E9DF86C4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10D-D79B-49FA-933C-BD313660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F15E-C300-4173-8866-E0CC67279CE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E0A9-BD0C-4F98-A4FA-B03F2F721A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0" y="228600"/>
            <a:ext cx="373392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553080" y="4370400"/>
            <a:ext cx="2590920" cy="2487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83AC-3C99-4BC9-AA6B-40A7C094C1E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9931-E42F-46C1-A4DD-23448F58E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rcRect l="0" t="7808" r="10003" b="3659"/>
          <a:stretch/>
        </p:blipFill>
        <p:spPr>
          <a:xfrm>
            <a:off x="3657600" y="1676520"/>
            <a:ext cx="5486400" cy="51814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572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1" marL="579240" indent="-22284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2" marL="891360" indent="-17820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3" marL="1248120" indent="-17820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4" marL="1604520" indent="-178200">
              <a:spcBef>
                <a:spcPts val="901"/>
              </a:spcBef>
              <a:buClr>
                <a:srgbClr val="cc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5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6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A921-26AE-4C95-861B-5C3CAED63F9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F66C-30AA-42D2-A92E-DFF19CA3C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2400-B5D8-416A-AE49-633606D0D20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7739-D257-41B3-B012-FB35D1D2E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cc0000"/>
              </a:solidFill>
              <a:latin typeface="Andy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896040" algn="ctr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3" marL="1343880" algn="ctr">
              <a:spcBef>
                <a:spcPts val="601"/>
              </a:spcBef>
              <a:buClr>
                <a:srgbClr val="cc0000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4" marL="1792080" algn="ctr">
              <a:spcBef>
                <a:spcPts val="601"/>
              </a:spcBef>
              <a:buClr>
                <a:srgbClr val="cc0000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5" marL="1792080">
              <a:spcBef>
                <a:spcPts val="6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6" marL="1792080">
              <a:spcBef>
                <a:spcPts val="6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6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wm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4.png"/><Relationship Id="rId9" Type="http://schemas.openxmlformats.org/officeDocument/2006/relationships/image" Target="../media/image10.wmf"/><Relationship Id="rId10" Type="http://schemas.openxmlformats.org/officeDocument/2006/relationships/image" Target="../media/image11.jpeg"/><Relationship Id="rId11" Type="http://schemas.openxmlformats.org/officeDocument/2006/relationships/image" Target="../media/image9.jpeg"/><Relationship Id="rId12" Type="http://schemas.openxmlformats.org/officeDocument/2006/relationships/audio" Target="../media/click.wav"/><Relationship Id="rId1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wm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68360" y="333360"/>
            <a:ext cx="575928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Daily life situations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5" name=""/>
          <p:cNvSpPr txBox="1"/>
          <p:nvPr/>
        </p:nvSpPr>
        <p:spPr>
          <a:xfrm rot="1388400">
            <a:off x="623520" y="3225960"/>
            <a:ext cx="36115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584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669900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Greetings</a:t>
            </a:r>
            <a:endParaRPr b="0" lang="en-US" sz="6000" spc="1" strike="noStrike">
              <a:ln w="1584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669900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ircle/>
    <p:sndAc>
      <p:stSnd>
        <p:snd r:embed="rId1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2"/>
          <a:srcRect l="0" t="722" r="0" b="0"/>
          <a:stretch/>
        </p:blipFill>
        <p:spPr>
          <a:xfrm>
            <a:off x="4211640" y="1197000"/>
            <a:ext cx="3676680" cy="46083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 rot="20515800">
            <a:off x="1547280" y="1773360"/>
            <a:ext cx="302436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8488c4"/>
                    </a:gs>
                    <a:gs pos="50000">
                      <a:srgbClr val="96ab94"/>
                    </a:gs>
                    <a:gs pos="100000">
                      <a:srgbClr val="8488c4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LD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8488c4"/>
                  </a:gs>
                  <a:gs pos="50000">
                    <a:srgbClr val="96ab94"/>
                  </a:gs>
                  <a:gs pos="100000">
                    <a:srgbClr val="8488c4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  <p:sndAc>
      <p:stSnd>
        <p:snd r:embed="rId3" name="wind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rcRect l="762" t="0" r="0" b="0"/>
          <a:stretch/>
        </p:blipFill>
        <p:spPr>
          <a:xfrm>
            <a:off x="1547640" y="1125360"/>
            <a:ext cx="3740400" cy="40323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 rot="20515800">
            <a:off x="4731840" y="3429000"/>
            <a:ext cx="32958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APPY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  <p:sndAc>
      <p:stSnd>
        <p:snd r:embed="rId3" name="wind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4092480" cy="43214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 rot="20515800">
            <a:off x="4822560" y="3638520"/>
            <a:ext cx="3024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50000">
                      <a:srgbClr val="d1c39f"/>
                    </a:gs>
                    <a:gs pos="100000">
                      <a:srgbClr val="ffefd1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AD</a:t>
            </a:r>
            <a:endParaRPr b="0" lang="en-US" sz="1800" spc="1" strike="noStrike">
              <a:ln w="9360">
                <a:solidFill>
                  <a:srgbClr val="008080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50000">
                    <a:srgbClr val="d1c39f"/>
                  </a:gs>
                  <a:gs pos="100000">
                    <a:srgbClr val="ffefd1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  <p:sndAc>
      <p:stSnd>
        <p:snd r:embed="rId3" name="wind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564000" y="1773360"/>
            <a:ext cx="4578120" cy="424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 rot="20515800">
            <a:off x="1402920" y="1483920"/>
            <a:ext cx="3024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GRY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  <p:sndAc>
      <p:stSnd>
        <p:snd r:embed="rId3" name="wind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rcRect l="0" t="1015" r="0" b="0"/>
          <a:stretch/>
        </p:blipFill>
        <p:spPr>
          <a:xfrm>
            <a:off x="3276720" y="2492280"/>
            <a:ext cx="4721040" cy="35085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 rot="20515800">
            <a:off x="1387440" y="1420560"/>
            <a:ext cx="3349800" cy="19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CARED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  <p:sndAc>
      <p:stSnd>
        <p:snd r:embed="rId3" name="wind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rcRect l="621" t="722" r="0" b="0"/>
          <a:stretch/>
        </p:blipFill>
        <p:spPr>
          <a:xfrm>
            <a:off x="2987640" y="1484280"/>
            <a:ext cx="5187960" cy="44751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 rot="20515800">
            <a:off x="1320480" y="1415520"/>
            <a:ext cx="345600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50000">
                      <a:srgbClr val="fee7f2"/>
                    </a:gs>
                    <a:gs pos="100000">
                      <a:srgbClr val="fbeac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UNGRY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50000">
                    <a:srgbClr val="fee7f2"/>
                  </a:gs>
                  <a:gs pos="100000">
                    <a:srgbClr val="fbeac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  <p:sndAc>
      <p:stSnd>
        <p:snd r:embed="rId3" name="wind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2"/>
          <a:srcRect l="518" t="722" r="0" b="19481"/>
          <a:stretch/>
        </p:blipFill>
        <p:spPr>
          <a:xfrm>
            <a:off x="971640" y="1989000"/>
            <a:ext cx="6915240" cy="39816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 rot="20515800">
            <a:off x="3995640" y="1557360"/>
            <a:ext cx="34228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IRSTY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  <p:sndAc>
      <p:stSnd>
        <p:snd r:embed="rId5" name="wind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 rot="20515800">
            <a:off x="1258560" y="1628280"/>
            <a:ext cx="43876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67a58"/>
                    </a:gs>
                    <a:gs pos="50000">
                      <a:srgbClr val="ee2849"/>
                    </a:gs>
                    <a:gs pos="100000">
                      <a:srgbClr val="f67a5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URPRISED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67a58"/>
                  </a:gs>
                  <a:gs pos="50000">
                    <a:srgbClr val="ee2849"/>
                  </a:gs>
                  <a:gs pos="100000">
                    <a:srgbClr val="f67a5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4932360" y="2349360"/>
            <a:ext cx="29224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3" name="wind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2"/>
          <a:srcRect l="585" t="722" r="0" b="0"/>
          <a:stretch/>
        </p:blipFill>
        <p:spPr>
          <a:xfrm>
            <a:off x="3149640" y="1859040"/>
            <a:ext cx="5022720" cy="40640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 rot="20515800">
            <a:off x="1115640" y="1413000"/>
            <a:ext cx="302436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IRED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  <p:sndAc>
      <p:stSnd>
        <p:snd r:embed="rId3" name="wind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 rot="21010200">
            <a:off x="1834920" y="1345680"/>
            <a:ext cx="5545080" cy="381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c9fc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HOW DO 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100000">
                    <a:srgbClr val="fc9fcb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c9fc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YOU FEEL?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100000">
                    <a:srgbClr val="fc9fcb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split dir="out" orient="vert"/>
    <p:sndAc>
      <p:stSnd>
        <p:snd r:embed="rId2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718240" y="3139920"/>
            <a:ext cx="3246480" cy="3529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160720" cy="2121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067280" y="620640"/>
            <a:ext cx="3960720" cy="2448000"/>
          </a:xfrm>
          <a:prstGeom prst="wedgeEllipseCallout">
            <a:avLst>
              <a:gd name="adj1" fmla="val 20819"/>
              <a:gd name="adj2" fmla="val 90921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27640" y="1197000"/>
            <a:ext cx="354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9900"/>
                </a:solidFill>
                <a:latin typeface="Comic Sans MS"/>
              </a:rPr>
              <a:t>“</a:t>
            </a:r>
            <a:r>
              <a:rPr b="1" lang="es-ES_tradnl" sz="3600" spc="-1" strike="noStrike">
                <a:solidFill>
                  <a:srgbClr val="669900"/>
                </a:solidFill>
                <a:latin typeface="Comic Sans MS"/>
              </a:rPr>
              <a:t>Good morning, how are you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3" name="click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 rot="21162000">
            <a:off x="1566720" y="1869840"/>
            <a:ext cx="3529080" cy="35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I am...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hungry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292720" y="1341360"/>
            <a:ext cx="267012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3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rcRect l="0" t="1635" r="0" b="0"/>
          <a:stretch/>
        </p:blipFill>
        <p:spPr>
          <a:xfrm>
            <a:off x="5435640" y="3573360"/>
            <a:ext cx="3708360" cy="24177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2160720" cy="21211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716360" y="1484280"/>
            <a:ext cx="3961080" cy="1511280"/>
          </a:xfrm>
          <a:prstGeom prst="wedgeEllipseCallout">
            <a:avLst>
              <a:gd name="adj1" fmla="val 2624"/>
              <a:gd name="adj2" fmla="val 97268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87840" y="1652760"/>
            <a:ext cx="268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9900"/>
                </a:solidFill>
                <a:latin typeface="Comic Sans MS"/>
              </a:rPr>
              <a:t>“</a:t>
            </a:r>
            <a:r>
              <a:rPr b="1" lang="es-ES_tradnl" sz="3600" spc="-1" strike="noStrike">
                <a:solidFill>
                  <a:srgbClr val="669900"/>
                </a:solidFill>
                <a:latin typeface="Comic Sans MS"/>
              </a:rPr>
              <a:t>I’m fine, thank you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3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3444840" cy="3743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2340000" cy="17956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55640" y="476280"/>
            <a:ext cx="4537080" cy="2232000"/>
          </a:xfrm>
          <a:prstGeom prst="wedgeEllipseCallout">
            <a:avLst>
              <a:gd name="adj1" fmla="val -14449"/>
              <a:gd name="adj2" fmla="val 7525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68560" y="1014480"/>
            <a:ext cx="397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99ff"/>
                </a:solidFill>
                <a:latin typeface="Comic Sans MS"/>
              </a:rPr>
              <a:t>“</a:t>
            </a:r>
            <a:r>
              <a:rPr b="1" lang="es-ES_tradnl" sz="3600" spc="-1" strike="noStrike">
                <a:solidFill>
                  <a:srgbClr val="3399ff"/>
                </a:solidFill>
                <a:latin typeface="Comic Sans MS"/>
              </a:rPr>
              <a:t>Good afternoon,</a:t>
            </a:r>
            <a:r>
              <a:rPr b="0" lang="es-ES_tradnl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3399ff"/>
                </a:solidFill>
                <a:latin typeface="Comic Sans MS"/>
              </a:rPr>
              <a:t>how are you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6089-C052-4288-A4BF-7E32B636A9B7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2BC5E-3961-4C44-9D77-E16D3A923CF9}" type="datetime1">
              <a:rPr lang="en-US"/>
              <a:t>07/31/26</a:t>
            </a:fld>
          </a:p>
        </p:txBody>
      </p:sp>
    </p:spTree>
  </p:cSld>
  <p:transition spd="slow">
    <p:circle/>
    <p:sndAc>
      <p:stSnd>
        <p:snd r:embed="rId3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rcRect l="16131" t="806" r="16131" b="0"/>
          <a:stretch/>
        </p:blipFill>
        <p:spPr>
          <a:xfrm>
            <a:off x="34920" y="3645000"/>
            <a:ext cx="3475080" cy="3217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7093080" y="476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95280" y="981000"/>
            <a:ext cx="4537080" cy="1943280"/>
          </a:xfrm>
          <a:prstGeom prst="wedgeEllipseCallout">
            <a:avLst>
              <a:gd name="adj1" fmla="val -14449"/>
              <a:gd name="adj2" fmla="val 79004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4360" y="1446120"/>
            <a:ext cx="397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99ff"/>
                </a:solidFill>
                <a:latin typeface="Comic Sans MS"/>
              </a:rPr>
              <a:t>“</a:t>
            </a:r>
            <a:r>
              <a:rPr b="1" lang="es-ES_tradnl" sz="3600" spc="-1" strike="noStrike">
                <a:solidFill>
                  <a:srgbClr val="3399ff"/>
                </a:solidFill>
                <a:latin typeface="Comic Sans MS"/>
              </a:rPr>
              <a:t>We are fine,</a:t>
            </a:r>
            <a:r>
              <a:rPr b="0" lang="es-ES_tradnl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3399ff"/>
                </a:solidFill>
                <a:latin typeface="Comic Sans MS"/>
              </a:rPr>
              <a:t>thank you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A715-BD84-48AF-9DBF-B07E74CF8C44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2E321-1741-4713-A9B6-5DF5208753D9}" type="datetime1">
              <a:rPr lang="en-US"/>
              <a:t>07/31/26</a:t>
            </a:fld>
          </a:p>
        </p:txBody>
      </p:sp>
    </p:spTree>
  </p:cSld>
  <p:transition spd="slow">
    <p:circle/>
    <p:sndAc>
      <p:stSnd>
        <p:snd r:embed="rId3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rcRect l="0" t="89994" r="0" b="0"/>
          <a:stretch/>
        </p:blipFill>
        <p:spPr>
          <a:xfrm>
            <a:off x="6877080" y="1989000"/>
            <a:ext cx="2016000" cy="69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rcRect l="0" t="89994" r="0" b="0"/>
          <a:stretch/>
        </p:blipFill>
        <p:spPr>
          <a:xfrm>
            <a:off x="6948360" y="1197000"/>
            <a:ext cx="2016360" cy="698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rcRect l="0" t="89994" r="0" b="0"/>
          <a:stretch/>
        </p:blipFill>
        <p:spPr>
          <a:xfrm>
            <a:off x="6877080" y="692280"/>
            <a:ext cx="2016000" cy="698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rcRect l="0" t="89994" r="0" b="0"/>
          <a:stretch/>
        </p:blipFill>
        <p:spPr>
          <a:xfrm>
            <a:off x="4427640" y="2422440"/>
            <a:ext cx="2016000" cy="698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rcRect l="0" t="89994" r="0" b="0"/>
          <a:stretch/>
        </p:blipFill>
        <p:spPr>
          <a:xfrm>
            <a:off x="4068720" y="1916280"/>
            <a:ext cx="2016000" cy="698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6"/>
          <a:srcRect l="0" t="89994" r="0" b="0"/>
          <a:stretch/>
        </p:blipFill>
        <p:spPr>
          <a:xfrm>
            <a:off x="4356000" y="765000"/>
            <a:ext cx="2016360" cy="702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7"/>
          <a:srcRect l="0" t="89994" r="0" b="0"/>
          <a:stretch/>
        </p:blipFill>
        <p:spPr>
          <a:xfrm>
            <a:off x="4643280" y="1341360"/>
            <a:ext cx="2016360" cy="69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8"/>
          <a:stretch/>
        </p:blipFill>
        <p:spPr>
          <a:xfrm>
            <a:off x="5718240" y="3139920"/>
            <a:ext cx="3246480" cy="35290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9"/>
          <a:stretch/>
        </p:blipFill>
        <p:spPr>
          <a:xfrm>
            <a:off x="5796000" y="404640"/>
            <a:ext cx="2424240" cy="2448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0"/>
          <a:srcRect l="0" t="0" r="0" b="89994"/>
          <a:stretch/>
        </p:blipFill>
        <p:spPr>
          <a:xfrm>
            <a:off x="3419640" y="333360"/>
            <a:ext cx="3095640" cy="1062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1"/>
          <a:srcRect l="0" t="89994" r="0" b="0"/>
          <a:stretch/>
        </p:blipFill>
        <p:spPr>
          <a:xfrm>
            <a:off x="5219640" y="2852640"/>
            <a:ext cx="3457800" cy="119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635280" y="3213000"/>
            <a:ext cx="3241800" cy="1149480"/>
          </a:xfrm>
          <a:prstGeom prst="wedgeEllipseCallout">
            <a:avLst>
              <a:gd name="adj1" fmla="val 43240"/>
              <a:gd name="adj2" fmla="val 55939"/>
            </a:avLst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51280" y="328464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Good night, how a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12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rcRect l="0" t="722" r="0" b="0"/>
          <a:stretch/>
        </p:blipFill>
        <p:spPr>
          <a:xfrm>
            <a:off x="5435640" y="3789360"/>
            <a:ext cx="3564000" cy="25131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643280" y="2421000"/>
            <a:ext cx="3241800" cy="1149120"/>
          </a:xfrm>
          <a:prstGeom prst="wedgeEllipseCallout">
            <a:avLst>
              <a:gd name="adj1" fmla="val 27912"/>
              <a:gd name="adj2" fmla="val 77902"/>
            </a:avLst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6659640" y="44280"/>
            <a:ext cx="2423880" cy="2448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859280" y="249228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I’m fine, thank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3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68360" y="333360"/>
            <a:ext cx="575928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Daily life situations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80" name=""/>
          <p:cNvSpPr txBox="1"/>
          <p:nvPr/>
        </p:nvSpPr>
        <p:spPr>
          <a:xfrm rot="1388400">
            <a:off x="826560" y="2421000"/>
            <a:ext cx="36118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584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669900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Moods</a:t>
            </a:r>
            <a:endParaRPr b="0" lang="en-US" sz="6000" spc="1" strike="noStrike">
              <a:ln w="1584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669900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1" name=""/>
          <p:cNvSpPr txBox="1"/>
          <p:nvPr/>
        </p:nvSpPr>
        <p:spPr>
          <a:xfrm rot="1935600">
            <a:off x="1692000" y="3573000"/>
            <a:ext cx="10285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584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669900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and</a:t>
            </a:r>
            <a:endParaRPr b="0" lang="en-US" sz="4800" spc="1" strike="noStrike">
              <a:ln w="1584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669900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2" name=""/>
          <p:cNvSpPr txBox="1"/>
          <p:nvPr/>
        </p:nvSpPr>
        <p:spPr>
          <a:xfrm rot="1388400">
            <a:off x="168120" y="4437000"/>
            <a:ext cx="36118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584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669900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feelings</a:t>
            </a:r>
            <a:endParaRPr b="0" lang="en-US" sz="6000" spc="1" strike="noStrike">
              <a:ln w="1584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669900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plit dir="out" orient="vert"/>
    <p:sndAc>
      <p:stSnd>
        <p:snd r:embed="rId1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2"/>
          <a:srcRect l="0" t="722" r="0" b="0"/>
          <a:stretch/>
        </p:blipFill>
        <p:spPr>
          <a:xfrm>
            <a:off x="3978360" y="836640"/>
            <a:ext cx="3952800" cy="4896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 rot="20515800">
            <a:off x="1547280" y="2492280"/>
            <a:ext cx="302436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T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  <p:sndAc>
      <p:stSnd>
        <p:snd r:embed="rId3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45:09Z</dcterms:created>
  <dc:creator>Manager</dc:creator>
  <dc:description/>
  <dc:language>en-US</dc:language>
  <cp:lastModifiedBy> </cp:lastModifiedBy>
  <dcterms:modified xsi:type="dcterms:W3CDTF">2008-04-02T18:22:44Z</dcterms:modified>
  <cp:revision>27</cp:revision>
  <dc:subject/>
  <dc:title>Slide 1</dc:title>
</cp:coreProperties>
</file>