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1.jpeg" ContentType="image/jpeg"/>
  <Override PartName="/ppt/media/image20.wmf" ContentType="image/x-wmf"/>
  <Override PartName="/ppt/media/image18.gif" ContentType="image/gif"/>
  <Override PartName="/ppt/media/image19.wmf" ContentType="image/x-wmf"/>
  <Override PartName="/ppt/media/image9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8.jpeg" ContentType="image/jpeg"/>
  <Override PartName="/ppt/media/whoosh.wav" ContentType="audio/x-wav"/>
  <Override PartName="/ppt/media/image13.wmf" ContentType="image/x-wm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50C-B322-425A-9886-14D562A0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F66-3279-4406-8039-DAEBF10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73F-AECE-4DD4-B961-D94F0ECF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95D-AAF2-43F1-9A08-431AE7CC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744-D6A4-45AF-8C35-8F8D115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C1C-8FFF-491A-9555-C8BBBC9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C5E-1440-4371-AC2B-3DFE2C4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F67-0A69-43C9-BC1D-982C0E0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EF1-14EE-4A56-94B9-5DBFDA6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893-6E30-4A01-A526-086E362F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64B-D0B7-4181-A004-B03DBFA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502-0F1A-4E14-8D83-DE1FED0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EF4-B14E-4A78-BFBA-C92A07A1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gi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4.pn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84720" y="5229360"/>
            <a:ext cx="28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AL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4360" y="836640"/>
            <a:ext cx="820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IS USE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.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8728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162864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APPLE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4005360"/>
            <a:ext cx="2735280" cy="226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16072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1962360" cy="266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1448800">
            <a:off x="1908000" y="1773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POTATO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998360" cy="234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148428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GG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2421000"/>
            <a:ext cx="3889440" cy="3449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THE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0920" y="1773360"/>
            <a:ext cx="216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SUN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2" name="whoosh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3952800" cy="329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 rot="21007200">
            <a:off x="1258920" y="162864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KANGAROO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4" name="whoo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1959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659640" y="549360"/>
            <a:ext cx="182088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900000" y="5516640"/>
            <a:ext cx="1028880" cy="75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059280" y="3284640"/>
            <a:ext cx="3622680" cy="210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427640" y="1484280"/>
            <a:ext cx="1809720" cy="1552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7093080" y="350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21007200">
            <a:off x="1244160" y="167940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FROG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10" name="whoosh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60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928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4:53:55Z</dcterms:created>
  <dc:creator>admin</dc:creator>
  <dc:description/>
  <dc:language>en-US</dc:language>
  <cp:lastModifiedBy>Manager</cp:lastModifiedBy>
  <dcterms:modified xsi:type="dcterms:W3CDTF">2008-05-20T12:50:58Z</dcterms:modified>
  <cp:revision>4</cp:revision>
  <dc:subject/>
  <dc:title>Slide 1</dc:title>
</cp:coreProperties>
</file>