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6.jpeg" ContentType="image/jpeg"/>
  <Override PartName="/ppt/media/image14.png" ContentType="image/png"/>
  <Override PartName="/ppt/media/image13.wmf" ContentType="image/x-wmf"/>
  <Override PartName="/ppt/media/coin.wav" ContentType="audio/x-wav"/>
  <Override PartName="/ppt/media/image3.wmf" ContentType="image/x-wmf"/>
  <Override PartName="/ppt/media/image2.wmf" ContentType="image/x-wmf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401-C6F7-4B3A-BCF2-85F6C435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B2D-FFD9-4716-A76D-066AE785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FBC-A02B-4F43-8531-EC201EA6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3A5-6399-4B33-B908-6406236D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5DF-8199-42BC-BA3E-B96175DB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3F3E-32FF-4F83-B761-36C19D75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2CE-A1A0-4903-9A74-97FE0676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B2B-1DE3-4ADB-ACEA-C320F845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1AC-6FE6-4027-AF06-21DF6799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552-6A71-4B4F-B797-A695EC0D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235-5CCE-440C-98AE-D74DE165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468C-367F-497D-8D91-8ED5716C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7330-F610-4B43-B43C-9E322B49F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508720" y="4724280"/>
            <a:ext cx="3311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 thruBlk="true"/>
    <p:sndAc>
      <p:stSnd>
        <p:snd r:embed="rId2" name="coi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71640" y="1773360"/>
            <a:ext cx="6877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COULD</a:t>
            </a:r>
            <a:endParaRPr b="0" lang="en-US" sz="1800" spc="1" strike="noStrike">
              <a:ln w="34920">
                <a:solidFill>
                  <a:srgbClr val="800000"/>
                </a:solidFill>
                <a:miter/>
              </a:ln>
              <a:solidFill>
                <a:srgbClr val="f5416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CONE </a:t>
            </a:r>
            <a:endParaRPr b="0" lang="en-US" sz="1800" spc="1" strike="noStrike">
              <a:ln w="34920">
                <a:solidFill>
                  <a:srgbClr val="800000"/>
                </a:solidFill>
                <a:miter/>
              </a:ln>
              <a:solidFill>
                <a:srgbClr val="f5416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 </a:t>
            </a: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?</a:t>
            </a:r>
            <a:endParaRPr b="0" lang="en-US" sz="1800" spc="1" strike="noStrike">
              <a:ln w="34920">
                <a:solidFill>
                  <a:srgbClr val="800000"/>
                </a:solidFill>
                <a:miter/>
              </a:ln>
              <a:solidFill>
                <a:srgbClr val="f5416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 thruBlk="true"/>
    <p:sndAc>
      <p:stSnd>
        <p:snd r:embed="rId1" name="coi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3433800">
            <a:off x="4947480" y="2692800"/>
            <a:ext cx="1868400" cy="4060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948360" y="549360"/>
            <a:ext cx="1598760" cy="1655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26920" y="4508640"/>
            <a:ext cx="1368720" cy="1368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N...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 rot="21327600">
            <a:off x="1525320" y="1557360"/>
            <a:ext cx="374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ICECREAM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p:transition>
    <p:fade thruBlk="true"/>
    <p:sndAc>
      <p:stSnd>
        <p:snd r:embed="rId4" name="co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rot="3180000">
            <a:off x="6520680" y="61056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932360" y="2781360"/>
            <a:ext cx="3063960" cy="3471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rot="20286000">
            <a:off x="1187280" y="3429000"/>
            <a:ext cx="2843280" cy="3002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 rot="21327600">
            <a:off x="1835280" y="1628640"/>
            <a:ext cx="2543040" cy="14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HAT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p:transition>
    <p:fade thruBlk="true"/>
    <p:sndAc>
      <p:stSnd>
        <p:snd r:embed="rId4" name="coin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6000" y="5300640"/>
            <a:ext cx="1385640" cy="1125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5445000"/>
            <a:ext cx="780840" cy="9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588000" y="549360"/>
            <a:ext cx="18082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 rot="20746200">
            <a:off x="2484360" y="3068280"/>
            <a:ext cx="4583160" cy="249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 rot="21327600">
            <a:off x="1525320" y="1557360"/>
            <a:ext cx="374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TRUMPET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p:transition>
    <p:fade thruBlk="true"/>
    <p:sndAc>
      <p:stSnd>
        <p:snd r:embed="rId5" name="coin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3789360"/>
            <a:ext cx="2663640" cy="2602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740720" y="33336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877080" y="4724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508720" y="2852640"/>
            <a:ext cx="2733480" cy="1679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 rot="21327600">
            <a:off x="1257120" y="1566720"/>
            <a:ext cx="4011480" cy="157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LOUDSPEAKER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p:transition>
    <p:fade thruBlk="true"/>
    <p:sndAc>
      <p:stSnd>
        <p:snd r:embed="rId5" name="coin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547640" y="1700280"/>
            <a:ext cx="6877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</a:t>
            </a: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IS </a:t>
            </a:r>
            <a:endParaRPr b="0" lang="en-US" sz="1800" spc="1" strike="noStrike">
              <a:ln w="34920">
                <a:solidFill>
                  <a:srgbClr val="800000"/>
                </a:solidFill>
                <a:miter/>
              </a:ln>
              <a:solidFill>
                <a:srgbClr val="f5416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</a:t>
            </a: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CONE </a:t>
            </a:r>
            <a:endParaRPr b="0" lang="en-US" sz="1800" spc="1" strike="noStrike">
              <a:ln w="34920">
                <a:solidFill>
                  <a:srgbClr val="800000"/>
                </a:solidFill>
                <a:miter/>
              </a:ln>
              <a:solidFill>
                <a:srgbClr val="f5416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SED FOR?</a:t>
            </a:r>
            <a:endParaRPr b="0" lang="en-US" sz="1800" spc="1" strike="noStrike">
              <a:ln w="34920">
                <a:solidFill>
                  <a:srgbClr val="800000"/>
                </a:solidFill>
                <a:miter/>
              </a:ln>
              <a:solidFill>
                <a:srgbClr val="f5416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1563480" cy="1728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coi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8000" y="763560"/>
            <a:ext cx="68770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CONE IS USED </a:t>
            </a:r>
            <a:endParaRPr b="0" lang="en-US" sz="1800" spc="1" strike="noStrike">
              <a:ln w="34920">
                <a:solidFill>
                  <a:srgbClr val="800000"/>
                </a:solidFill>
                <a:miter/>
              </a:ln>
              <a:solidFill>
                <a:srgbClr val="f5416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R PLAYING GAMES</a:t>
            </a:r>
            <a:endParaRPr b="0" lang="en-US" sz="1800" spc="1" strike="noStrike">
              <a:ln w="34920">
                <a:solidFill>
                  <a:srgbClr val="800000"/>
                </a:solidFill>
                <a:miter/>
              </a:ln>
              <a:solidFill>
                <a:srgbClr val="f5416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4321080" cy="324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coi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5:27:29Z</dcterms:created>
  <dc:creator>admin</dc:creator>
  <dc:description/>
  <dc:language>en-US</dc:language>
  <cp:lastModifiedBy> </cp:lastModifiedBy>
  <dcterms:modified xsi:type="dcterms:W3CDTF">2008-05-19T15:27:44Z</dcterms:modified>
  <cp:revision>5</cp:revision>
  <dc:subject/>
  <dc:title>Slide 1</dc:title>
</cp:coreProperties>
</file>