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gif" ContentType="image/gif"/>
  <Override PartName="/ppt/media/image7.wmf" ContentType="image/x-wmf"/>
  <Override PartName="/ppt/media/image8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F7A-836D-4ABC-A5CC-ADCDF76D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0BC-9A79-4286-8744-B2A7895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646-2D47-4D04-A1ED-6495362E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B92-DA8A-424E-B1EE-4CB669F8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E2D-C409-4DC6-9022-A7005BF4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E21-2AFC-4D43-8F71-97744101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03B-354C-4C4E-98B8-273D591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DAE-22DF-43A3-8B7F-E84633C1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630-2E72-47FC-8DC1-55266DE9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AA4-6EB6-4F4D-BE04-EB18836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E5C-4784-4DA8-8033-6768886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B4D-6FFB-41F1-A933-436C141B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8BAF-A2DE-48E1-9169-C526B6ED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592720" cy="131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TAST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EA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TEE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1484280"/>
            <a:ext cx="1873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549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E, 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860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SEE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 L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2016000" cy="2009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476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EAR, 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64500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HEAR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 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024360" cy="1468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232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TOUCH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HA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1633680" cy="244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SM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223380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1787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6:56:35Z</dcterms:created>
  <dc:creator>Manager</dc:creator>
  <dc:description/>
  <dc:language>en-US</dc:language>
  <cp:lastModifiedBy> </cp:lastModifiedBy>
  <dcterms:modified xsi:type="dcterms:W3CDTF">2008-02-24T12:14:46Z</dcterms:modified>
  <cp:revision>4</cp:revision>
  <dc:subject/>
  <dc:title>Slide 1</dc:title>
</cp:coreProperties>
</file>