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17.gif" ContentType="image/gif"/>
  <Override PartName="/ppt/media/image13.wmf" ContentType="image/x-wmf"/>
  <Override PartName="/ppt/media/image29.wmf" ContentType="image/x-wmf"/>
  <Override PartName="/ppt/media/image19.jpeg" ContentType="image/jpeg"/>
  <Override PartName="/ppt/media/image21.jpeg" ContentType="image/jpeg"/>
  <Override PartName="/ppt/media/image2.wmf" ContentType="image/x-wmf"/>
  <Override PartName="/ppt/media/image6.gif" ContentType="image/gif"/>
  <Override PartName="/ppt/media/image16.wmf" ContentType="image/x-wmf"/>
  <Override PartName="/ppt/media/image12.wmf" ContentType="image/x-wmf"/>
  <Override PartName="/ppt/media/image34.jpeg" ContentType="image/jpeg"/>
  <Override PartName="/ppt/media/image40.wmf" ContentType="image/x-wmf"/>
  <Override PartName="/ppt/media/image10.wmf" ContentType="image/x-wmf"/>
  <Override PartName="/ppt/media/image22.gif" ContentType="image/gif"/>
  <Override PartName="/ppt/media/image3.png" ContentType="image/png"/>
  <Override PartName="/ppt/media/image30.wmf" ContentType="image/x-wmf"/>
  <Override PartName="/ppt/media/image33.jpeg" ContentType="image/jpeg"/>
  <Override PartName="/ppt/media/image38.wmf" ContentType="image/x-wmf"/>
  <Override PartName="/ppt/media/image8.wmf" ContentType="image/x-wmf"/>
  <Override PartName="/ppt/media/image37.jpeg" ContentType="image/jpeg"/>
  <Override PartName="/ppt/media/image35.jpeg" ContentType="image/jpeg"/>
  <Override PartName="/ppt/media/image39.wmf" ContentType="image/x-wmf"/>
  <Override PartName="/ppt/media/image7.wmf" ContentType="image/x-wmf"/>
  <Override PartName="/ppt/media/image11.wmf" ContentType="image/x-wmf"/>
  <Override PartName="/ppt/media/image5.jpeg" ContentType="image/jpeg"/>
  <Override PartName="/ppt/media/image24.gif" ContentType="image/gif"/>
  <Override PartName="/ppt/media/image32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9.jpeg" ContentType="image/jpeg"/>
  <Override PartName="/ppt/media/image4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1DE-FCC7-443C-958D-6650AE5D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254-5E63-4727-91AA-4F707436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FDC-979B-414C-840B-FFF7F836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44B-7EDB-46CF-9D13-C3EE3FC2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0408-CBE4-4719-A867-3B8F2987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31F3-7389-4870-8209-8FF1812C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42B9-0BFA-4CF2-88ED-CAD47C07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013B-2333-4294-81B9-0169D312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24D0-9E91-4EC3-87D1-812327A4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F995-32EA-40DE-8402-832071AA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DE0C-F6A1-4077-AD5D-D429693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8F7-A43C-4B41-9133-FA43A57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C5E-4C75-4568-9FC1-63EEB99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ECD-DBAE-4E94-A06C-7DA67DBE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D331-75BD-420D-8D9D-C3D78BCF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85F2-E24E-403B-AA84-2569EAEC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4762-CAA2-4DCF-A6CD-999F8990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14B8-5C34-41B9-BB4C-E9E76820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9EAE-FAA4-4583-92CD-8DB55F87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701F-6160-4125-8B32-30FF1442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D9AB-8FFB-46B5-81D2-2D28E1B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59F8-9045-4172-97C9-59FF37BB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329-EDC0-46B3-BCED-AB88EF4F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6837-288E-43DC-9CAB-8D476907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203E-080C-4310-BC34-45F36D2B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1E8B-7171-4AEC-81C2-84624A8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24AC-21C4-493F-9A66-485278D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621D-59FD-4533-86C6-232B00B6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CB84-3F80-4509-88AF-9602BDFB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A5F7-D0C5-4AD3-8BF4-51203AC2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7E19-EF56-4032-9D44-3F6DB4E5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922A-A1B2-46B9-9447-651D3FF0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DE72-B6C7-49F0-B78E-17C014BF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FCF-B048-4BD9-8CF0-D50BBB5A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93AA-3E63-4308-9B9B-265C79D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1F21C-1F14-4016-B06B-CA87831C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2093-784F-4BD9-9B2A-5A8FA6B3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BC6BE-EE12-4E3E-A61B-FB4DAA1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391A-4341-4D29-BB92-622A07B7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C4F2F-D335-466F-8D0C-E724F2B8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B3800-3AD0-4FA3-BF50-E4150D19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8C95-E880-42BB-A748-B5503D7C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80F6-097E-4AC8-9144-98677DFD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4A3-F9B2-44D9-B222-3768D43E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557-A66F-4786-9FA6-030385B9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8B6-5775-42D7-8899-39C3141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CAC-0AC5-470A-9862-F6F3EC2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5D0-796F-43F2-9605-B1A7BB0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207E-AD3B-4D69-8FC0-1FB7C9AC6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LA01638A"/>
          <p:cNvPicPr/>
          <p:nvPr/>
        </p:nvPicPr>
        <p:blipFill>
          <a:blip r:embed="rId2"/>
          <a:stretch/>
        </p:blipFill>
        <p:spPr>
          <a:xfrm>
            <a:off x="0" y="4206960"/>
            <a:ext cx="1959120" cy="26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RS"/>
          <p:cNvPicPr/>
          <p:nvPr/>
        </p:nvPicPr>
        <p:blipFill>
          <a:blip r:embed="rId2"/>
          <a:stretch/>
        </p:blipFill>
        <p:spPr>
          <a:xfrm>
            <a:off x="0" y="0"/>
            <a:ext cx="5029200" cy="5211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dventur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0E96-DFA7-428D-B7FB-EF63D5022096}" type="slidenum">
              <a:rPr b="0" lang="en-US" sz="1400" spc="-1" strike="noStrike">
                <a:solidFill>
                  <a:srgbClr val="000000"/>
                </a:solidFill>
                <a:latin typeface="Adventur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7D4-7769-4D1B-AB0D-A86FBD617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LA01638A"/>
          <p:cNvPicPr/>
          <p:nvPr/>
        </p:nvPicPr>
        <p:blipFill>
          <a:blip r:embed="rId2"/>
          <a:stretch/>
        </p:blipFill>
        <p:spPr>
          <a:xfrm>
            <a:off x="0" y="4206960"/>
            <a:ext cx="1959120" cy="26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BARS"/>
          <p:cNvPicPr/>
          <p:nvPr/>
        </p:nvPicPr>
        <p:blipFill>
          <a:blip r:embed="rId2"/>
          <a:stretch/>
        </p:blipFill>
        <p:spPr>
          <a:xfrm>
            <a:off x="0" y="0"/>
            <a:ext cx="5029200" cy="5211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dventur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6009-3C9C-42CC-BC29-6523FB822ED5}" type="slidenum">
              <a:rPr b="0" lang="en-US" sz="1400" spc="-1" strike="noStrike">
                <a:solidFill>
                  <a:srgbClr val="000000"/>
                </a:solidFill>
                <a:latin typeface="Adventur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3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16.wm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dventure"/>
              </a:rPr>
              <a:t>Why is the </a:t>
            </a:r>
            <a:r>
              <a:rPr b="0" lang="en-GB" sz="6000" spc="-1" strike="noStrike">
                <a:solidFill>
                  <a:srgbClr val="ffffff"/>
                </a:solidFill>
                <a:latin typeface="Adventure"/>
              </a:rPr>
              <a:t>WARM UP</a:t>
            </a:r>
            <a:r>
              <a:rPr b="0" lang="en-GB" sz="4800" spc="-1" strike="noStrike">
                <a:solidFill>
                  <a:srgbClr val="ffffff"/>
                </a:solidFill>
                <a:latin typeface="Adventure"/>
              </a:rPr>
              <a:t> important before exercis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029200" y="4495680"/>
            <a:ext cx="411480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dventure"/>
              </a:rPr>
              <a:t>It is important becau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MSSN00578A0000[1].wav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Documents and Settings\scap0s12\Local Settings\Temporary Internet Files\Content.IE5\TNE0XPGR\MCj03666180000[1].wmf"/>
          <p:cNvPicPr/>
          <p:nvPr/>
        </p:nvPicPr>
        <p:blipFill>
          <a:blip r:embed="rId2"/>
          <a:stretch/>
        </p:blipFill>
        <p:spPr>
          <a:xfrm>
            <a:off x="5651640" y="5056200"/>
            <a:ext cx="173664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WHY  </a:t>
            </a:r>
            <a:r>
              <a:rPr b="0" lang="en-GB" sz="5000" spc="-1" strike="noStrike">
                <a:solidFill>
                  <a:srgbClr val="ffffff"/>
                </a:solidFill>
                <a:latin typeface="Adventure"/>
              </a:rPr>
              <a:t>EXERCIS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29200" y="4495680"/>
            <a:ext cx="411480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is importan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4360" y="692280"/>
            <a:ext cx="45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 makes me... </a:t>
            </a:r>
            <a:endParaRPr b="0" lang="en-US" sz="24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1844640"/>
            <a:ext cx="52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FEEL GOOD</a:t>
            </a:r>
            <a:endParaRPr b="0" lang="en-US" sz="24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435640" y="3284640"/>
            <a:ext cx="3333600" cy="2209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4360" y="692280"/>
            <a:ext cx="45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008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 makes me... </a:t>
            </a:r>
            <a:endParaRPr b="0" lang="en-US" sz="24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80008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32000" y="1628640"/>
            <a:ext cx="518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008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NJOY LIFE MORE</a:t>
            </a:r>
            <a:endParaRPr b="0" lang="en-US" sz="24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80008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2" descr="C:\Documents and Settings\scap0s12\Local Settings\Temporary Internet Files\Content.IE5\PWHEYQTV\MCj04360410000[1].wmf"/>
          <p:cNvPicPr/>
          <p:nvPr/>
        </p:nvPicPr>
        <p:blipFill>
          <a:blip r:embed="rId1"/>
          <a:stretch/>
        </p:blipFill>
        <p:spPr>
          <a:xfrm>
            <a:off x="6696000" y="2924280"/>
            <a:ext cx="2448000" cy="1974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Documents and Settings\scap0s12\Local Settings\Temporary Internet Files\Content.IE5\6G5PWHFH\MCj04360450000[1].wmf"/>
          <p:cNvPicPr/>
          <p:nvPr/>
        </p:nvPicPr>
        <p:blipFill>
          <a:blip r:embed="rId2"/>
          <a:stretch/>
        </p:blipFill>
        <p:spPr>
          <a:xfrm>
            <a:off x="4427640" y="4149720"/>
            <a:ext cx="2419200" cy="2565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scap0s12\Local Settings\Temporary Internet Files\Content.IE5\DPD1Z1Z2\MCj04360490000[1].wmf"/>
          <p:cNvPicPr/>
          <p:nvPr/>
        </p:nvPicPr>
        <p:blipFill>
          <a:blip r:embed="rId3"/>
          <a:stretch/>
        </p:blipFill>
        <p:spPr>
          <a:xfrm>
            <a:off x="1908000" y="3068640"/>
            <a:ext cx="22323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260280"/>
            <a:ext cx="45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 makes me... 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1280" y="1198440"/>
            <a:ext cx="8207280" cy="10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AVE FUN WITH MY FRIENDS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667240" cy="40003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3888000" cy="2587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55640" y="404640"/>
            <a:ext cx="45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 makes me...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5640" y="155736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FEEL RELAXED and SLEEP BETTER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2895480" cy="2616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rcRect l="8504" t="7087" r="8504" b="23386"/>
          <a:stretch/>
        </p:blipFill>
        <p:spPr>
          <a:xfrm>
            <a:off x="5076720" y="3164040"/>
            <a:ext cx="393228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AFTER the EXERCISE you need to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029200" y="4495680"/>
            <a:ext cx="411480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dventure"/>
              </a:rPr>
              <a:t>COOL 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4360" y="620640"/>
            <a:ext cx="741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COOL DOWN helps my body to</a:t>
            </a:r>
            <a:endParaRPr b="0" lang="en-US" sz="24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1413000"/>
            <a:ext cx="28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COVER</a:t>
            </a:r>
            <a:endParaRPr b="0" lang="en-US" sz="24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564000" y="177336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fter activity.</a:t>
            </a:r>
            <a:endParaRPr b="0" lang="en-US" sz="24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14919" t="0" r="7459" b="0"/>
          <a:stretch/>
        </p:blipFill>
        <p:spPr>
          <a:xfrm>
            <a:off x="2050920" y="2781360"/>
            <a:ext cx="374652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921040" cy="3441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C:\Documents and Settings\scap0s12\Local Settings\Temporary Internet Files\Content.IE5\PWHEYQTV\MCj01393530000[1].wmf"/>
          <p:cNvPicPr/>
          <p:nvPr/>
        </p:nvPicPr>
        <p:blipFill>
          <a:blip r:embed="rId1"/>
          <a:stretch/>
        </p:blipFill>
        <p:spPr>
          <a:xfrm>
            <a:off x="250920" y="189000"/>
            <a:ext cx="2847960" cy="3816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scap0s12\Local Settings\Temporary Internet Files\Content.IE5\DPD1Z1Z2\MCj01393470000[1].wmf"/>
          <p:cNvPicPr/>
          <p:nvPr/>
        </p:nvPicPr>
        <p:blipFill>
          <a:blip r:embed="rId2"/>
          <a:stretch/>
        </p:blipFill>
        <p:spPr>
          <a:xfrm>
            <a:off x="6588000" y="260280"/>
            <a:ext cx="2378160" cy="345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Documents and Settings\scap0s12\Local Settings\Temporary Internet Files\Content.IE5\6G5PWHFH\MCj01393490000[1].wmf"/>
          <p:cNvPicPr/>
          <p:nvPr/>
        </p:nvPicPr>
        <p:blipFill>
          <a:blip r:embed="rId3"/>
          <a:stretch/>
        </p:blipFill>
        <p:spPr>
          <a:xfrm>
            <a:off x="3924360" y="4005360"/>
            <a:ext cx="3313080" cy="2332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 rot="1863000">
            <a:off x="3348000" y="2133720"/>
            <a:ext cx="29242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njoy the P.E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2920" y="69228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t helps us to prepare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ur body to take par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 energetic games and activities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00360" y="2997360"/>
            <a:ext cx="208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</a:t>
            </a:r>
            <a:endParaRPr b="0" lang="en-US" sz="4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59280" y="4869000"/>
            <a:ext cx="403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ARM-UP?</a:t>
            </a:r>
            <a:endParaRPr b="0" lang="en-US" sz="4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48360" y="335772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n we</a:t>
            </a:r>
            <a:endParaRPr b="0" lang="en-US" sz="32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4360" y="549360"/>
            <a:ext cx="208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UN</a:t>
            </a:r>
            <a:endParaRPr b="0" lang="en-US" sz="48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03640" y="765000"/>
            <a:ext cx="5689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tly for 5 minutes</a:t>
            </a:r>
            <a:endParaRPr b="0" lang="en-US" sz="48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857320" cy="42861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79" name="Picture 4" descr="C:\Documents and Settings\scap0s12\Local Settings\Temporary Internet Files\Content.IE5\6G5PWHFH\MMj02364080000[1].gif"/>
          <p:cNvPicPr/>
          <p:nvPr/>
        </p:nvPicPr>
        <p:blipFill>
          <a:blip r:embed="rId2"/>
          <a:stretch/>
        </p:blipFill>
        <p:spPr>
          <a:xfrm>
            <a:off x="2843280" y="0"/>
            <a:ext cx="944640" cy="871560"/>
          </a:xfrm>
          <a:prstGeom prst="rect">
            <a:avLst/>
          </a:prstGeom>
          <a:ln w="0">
            <a:noFill/>
          </a:ln>
        </p:spPr>
      </p:pic>
      <p:pic>
        <p:nvPicPr>
          <p:cNvPr id="180" name="MSj03886040000[1].wav" descr=""/>
          <p:cNvPicPr/>
          <p:nvPr/>
        </p:nvPicPr>
        <p:blipFill>
          <a:blip r:embed="rId3"/>
          <a:stretch/>
        </p:blipFill>
        <p:spPr>
          <a:xfrm>
            <a:off x="1547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124000" y="227664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 play</a:t>
            </a:r>
            <a:endParaRPr b="0" lang="en-US" sz="24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4360" y="3213000"/>
            <a:ext cx="518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less energetic activity</a:t>
            </a:r>
            <a:endParaRPr b="0" lang="en-US" sz="24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3" name="Picture 7" descr="C:\Documents and Settings\scap0s12\Local Settings\Temporary Internet Files\Content.IE5\TNE0XPGR\MCj04241560000[1].wmf"/>
          <p:cNvPicPr/>
          <p:nvPr/>
        </p:nvPicPr>
        <p:blipFill>
          <a:blip r:embed="rId4"/>
          <a:stretch/>
        </p:blipFill>
        <p:spPr>
          <a:xfrm>
            <a:off x="2268360" y="4365720"/>
            <a:ext cx="111132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:\Documents and Settings\scap0s12\Local Settings\Temporary Internet Files\Content.IE5\PWHEYQTV\MCj04360430000[1].wmf"/>
          <p:cNvPicPr/>
          <p:nvPr/>
        </p:nvPicPr>
        <p:blipFill>
          <a:blip r:embed="rId5"/>
          <a:stretch/>
        </p:blipFill>
        <p:spPr>
          <a:xfrm>
            <a:off x="3708360" y="4653000"/>
            <a:ext cx="187344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59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4360" y="549360"/>
            <a:ext cx="77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the end of the warm-up</a:t>
            </a:r>
            <a:endParaRPr b="0" lang="en-US" sz="48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1280" y="1413000"/>
            <a:ext cx="266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 some </a:t>
            </a:r>
            <a:endParaRPr b="0" lang="en-US" sz="32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64000" y="1413000"/>
            <a:ext cx="3800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ETCHES</a:t>
            </a:r>
            <a:endParaRPr b="0" lang="en-US" sz="44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12000" y="3645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Documents and Settings\scap0s12\Local Settings\Temporary Internet Files\Content.IE5\6G5PWHFH\MCSL01386_0000[1].wmf"/>
          <p:cNvPicPr/>
          <p:nvPr/>
        </p:nvPicPr>
        <p:blipFill>
          <a:blip r:embed="rId2"/>
          <a:stretch/>
        </p:blipFill>
        <p:spPr>
          <a:xfrm>
            <a:off x="611280" y="2565360"/>
            <a:ext cx="1809720" cy="1276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C:\Documents and Settings\scap0s12\Local Settings\Temporary Internet Files\Content.IE5\PWHEYQTV\MCSL01376_0000[1].wmf"/>
          <p:cNvPicPr/>
          <p:nvPr/>
        </p:nvPicPr>
        <p:blipFill>
          <a:blip r:embed="rId3"/>
          <a:stretch/>
        </p:blipFill>
        <p:spPr>
          <a:xfrm>
            <a:off x="3635280" y="2781360"/>
            <a:ext cx="1366920" cy="1808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C:\Documents and Settings\scap0s12\Local Settings\Temporary Internet Files\Content.IE5\PWHEYQTV\MCSL01377_0000[1].wmf"/>
          <p:cNvPicPr/>
          <p:nvPr/>
        </p:nvPicPr>
        <p:blipFill>
          <a:blip r:embed="rId4"/>
          <a:stretch/>
        </p:blipFill>
        <p:spPr>
          <a:xfrm>
            <a:off x="4932360" y="4581360"/>
            <a:ext cx="720720" cy="18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C:\Documents and Settings\scap0s12\Local Settings\Temporary Internet Files\Content.IE5\TNE0XPGR\MCSL01385_0000[1].wmf"/>
          <p:cNvPicPr/>
          <p:nvPr/>
        </p:nvPicPr>
        <p:blipFill>
          <a:blip r:embed="rId5"/>
          <a:stretch/>
        </p:blipFill>
        <p:spPr>
          <a:xfrm>
            <a:off x="6516720" y="2565360"/>
            <a:ext cx="1809720" cy="836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C:\Documents and Settings\scap0s12\Local Settings\Temporary Internet Files\Content.IE5\DPD1Z1Z2\MCSL01378_0000[1].wmf"/>
          <p:cNvPicPr/>
          <p:nvPr/>
        </p:nvPicPr>
        <p:blipFill>
          <a:blip r:embed="rId6"/>
          <a:stretch/>
        </p:blipFill>
        <p:spPr>
          <a:xfrm>
            <a:off x="2124000" y="4724280"/>
            <a:ext cx="1290600" cy="182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How do you </a:t>
            </a:r>
            <a:r>
              <a:rPr b="0" lang="en-GB" sz="6000" spc="-1" strike="noStrike">
                <a:solidFill>
                  <a:srgbClr val="ffffff"/>
                </a:solidFill>
                <a:latin typeface="Adventure"/>
              </a:rPr>
              <a:t>FEEL</a:t>
            </a: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 after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29200" y="4495680"/>
            <a:ext cx="411480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WARM-UP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47628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y</a:t>
            </a:r>
            <a:endParaRPr b="0" lang="en-US" sz="24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411280" y="260280"/>
            <a:ext cx="34480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EART</a:t>
            </a:r>
            <a:endParaRPr b="0" lang="en-US" sz="80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84720" y="476280"/>
            <a:ext cx="244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eats faster.</a:t>
            </a:r>
            <a:endParaRPr b="0" lang="en-US" sz="24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9" name="Picture 5" descr="C:\Documents and Settings\scap0s12\Local Settings\Temporary Internet Files\Content.IE5\TNE0XPGR\MPj04332180000[1].jpg"/>
          <p:cNvPicPr/>
          <p:nvPr/>
        </p:nvPicPr>
        <p:blipFill>
          <a:blip r:embed="rId1"/>
          <a:stretch/>
        </p:blipFill>
        <p:spPr>
          <a:xfrm>
            <a:off x="1332000" y="162864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C:\Documents and Settings\scap0s12\Local Settings\Temporary Internet Files\Content.IE5\TNE0XPGR\MCj03666180000[1].wmf"/>
          <p:cNvPicPr/>
          <p:nvPr/>
        </p:nvPicPr>
        <p:blipFill>
          <a:blip r:embed="rId2"/>
          <a:stretch/>
        </p:blipFill>
        <p:spPr>
          <a:xfrm>
            <a:off x="6881760" y="4581360"/>
            <a:ext cx="1874880" cy="1944720"/>
          </a:xfrm>
          <a:prstGeom prst="rect">
            <a:avLst/>
          </a:prstGeom>
          <a:ln w="0">
            <a:noFill/>
          </a:ln>
        </p:spPr>
      </p:pic>
      <p:pic>
        <p:nvPicPr>
          <p:cNvPr id="201" name="MSSN00578A0000[1].wav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 rot="19778400">
            <a:off x="2916360" y="3212640"/>
            <a:ext cx="42764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isten to your heart</a:t>
            </a:r>
            <a:endParaRPr b="1" i="1" lang="en-US" sz="2400" spc="1" strike="noStrike">
              <a:ln w="2232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03" name="Picture 7" descr="C:\Documents and Settings\scap0s12\Local Settings\Temporary Internet Files\Content.IE5\PWHEYQTV\MCHM00379_0000[1].wmf"/>
          <p:cNvPicPr/>
          <p:nvPr/>
        </p:nvPicPr>
        <p:blipFill>
          <a:blip r:embed="rId4"/>
          <a:stretch/>
        </p:blipFill>
        <p:spPr>
          <a:xfrm rot="19329000">
            <a:off x="2268360" y="5084280"/>
            <a:ext cx="965520" cy="115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scap0s12\Local Settings\Temporary Internet Files\Content.IE5\6G5PWHFH\MMj02841050000[1].gif"/>
          <p:cNvPicPr/>
          <p:nvPr/>
        </p:nvPicPr>
        <p:blipFill>
          <a:blip r:embed="rId5"/>
          <a:stretch/>
        </p:blipFill>
        <p:spPr>
          <a:xfrm>
            <a:off x="5651640" y="5551560"/>
            <a:ext cx="1074600" cy="75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95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MSj00749480000[1].wav" descr=""/>
          <p:cNvPicPr/>
          <p:nvPr/>
        </p:nvPicPr>
        <p:blipFill>
          <a:blip r:embed="rId1"/>
          <a:stretch/>
        </p:blipFill>
        <p:spPr>
          <a:xfrm>
            <a:off x="883908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Documents and Settings\scap0s12\Local Settings\Temporary Internet Files\Content.IE5\DPD1Z1Z2\MCj02114780000[1].wmf"/>
          <p:cNvPicPr/>
          <p:nvPr/>
        </p:nvPicPr>
        <p:blipFill>
          <a:blip r:embed="rId2"/>
          <a:stretch/>
        </p:blipFill>
        <p:spPr>
          <a:xfrm>
            <a:off x="2843280" y="3068640"/>
            <a:ext cx="2476440" cy="3168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156360" y="2276640"/>
            <a:ext cx="2619360" cy="3609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900000" y="189000"/>
            <a:ext cx="14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</a:t>
            </a:r>
            <a:endParaRPr b="0" lang="en-US" sz="24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92360" y="189000"/>
            <a:ext cx="34480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REATH</a:t>
            </a:r>
            <a:endParaRPr b="0" lang="en-US" sz="80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24360" y="40464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ore</a:t>
            </a:r>
            <a:endParaRPr b="0" lang="en-US" sz="24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692360" y="1700280"/>
            <a:ext cx="34480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EAVILY</a:t>
            </a:r>
            <a:endParaRPr b="0" lang="en-US" sz="80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508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C:\Documents and Settings\scap0s12\Local Settings\Temporary Internet Files\Content.IE5\6G5PWHFH\MCj04238580000[1].wmf"/>
          <p:cNvPicPr/>
          <p:nvPr/>
        </p:nvPicPr>
        <p:blipFill>
          <a:blip r:embed="rId1"/>
          <a:stretch/>
        </p:blipFill>
        <p:spPr>
          <a:xfrm>
            <a:off x="3851280" y="3141720"/>
            <a:ext cx="2954160" cy="2805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Documents and Settings\scap0s12\Local Settings\Temporary Internet Files\Content.IE5\DPD1Z1Z2\MPj04094230000[1].jpg"/>
          <p:cNvPicPr/>
          <p:nvPr/>
        </p:nvPicPr>
        <p:blipFill>
          <a:blip r:embed="rId2"/>
          <a:stretch/>
        </p:blipFill>
        <p:spPr>
          <a:xfrm>
            <a:off x="395280" y="404640"/>
            <a:ext cx="2043000" cy="3071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:\Documents and Settings\scap0s12\Local Settings\Temporary Internet Files\Content.IE5\TNE0XPGR\MMj02952060000[1].gif"/>
          <p:cNvPicPr/>
          <p:nvPr/>
        </p:nvPicPr>
        <p:blipFill>
          <a:blip r:embed="rId3"/>
          <a:stretch/>
        </p:blipFill>
        <p:spPr>
          <a:xfrm rot="20251200">
            <a:off x="3348000" y="5229000"/>
            <a:ext cx="258840" cy="1247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C:\Documents and Settings\scap0s12\Local Settings\Temporary Internet Files\Content.IE5\PWHEYQTV\MCj01993600000[1].wmf"/>
          <p:cNvPicPr/>
          <p:nvPr/>
        </p:nvPicPr>
        <p:blipFill>
          <a:blip r:embed="rId4"/>
          <a:stretch/>
        </p:blipFill>
        <p:spPr>
          <a:xfrm rot="1247400">
            <a:off x="8101080" y="198864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:\Documents and Settings\scap0s12\Local Settings\Temporary Internet Files\Content.IE5\PWHEYQTV\MMj02347030000[1].gif"/>
          <p:cNvPicPr/>
          <p:nvPr/>
        </p:nvPicPr>
        <p:blipFill>
          <a:blip r:embed="rId5"/>
          <a:stretch/>
        </p:blipFill>
        <p:spPr>
          <a:xfrm>
            <a:off x="7093080" y="4869000"/>
            <a:ext cx="1692000" cy="1692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843280" y="549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y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0" y="26028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PERATURE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067280" y="1700280"/>
            <a:ext cx="208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ises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C:\Documents and Settings\scap0s12\Local Settings\Temporary Internet Files\Content.IE5\6G5PWHFH\MCj04238120000[1].wmf"/>
          <p:cNvPicPr/>
          <p:nvPr/>
        </p:nvPicPr>
        <p:blipFill>
          <a:blip r:embed="rId1"/>
          <a:stretch/>
        </p:blipFill>
        <p:spPr>
          <a:xfrm>
            <a:off x="6084720" y="260280"/>
            <a:ext cx="1803600" cy="2016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403280" y="549360"/>
            <a:ext cx="15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 feel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492360" y="47628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OT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Picture 6" descr="C:\Documents and Settings\scap0s12\Local Settings\Temporary Internet Files\Content.IE5\PWHEYQTV\MCSL01391_0000[1].wmf"/>
          <p:cNvPicPr/>
          <p:nvPr/>
        </p:nvPicPr>
        <p:blipFill>
          <a:blip r:embed="rId2"/>
          <a:stretch/>
        </p:blipFill>
        <p:spPr>
          <a:xfrm>
            <a:off x="6084720" y="2565360"/>
            <a:ext cx="2063880" cy="4032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116000" y="2637000"/>
            <a:ext cx="15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nd I 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59280" y="2492280"/>
            <a:ext cx="2374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WEAT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419640" y="4005360"/>
            <a:ext cx="259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 little bit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42:50Z</dcterms:created>
  <dc:creator>Manager</dc:creator>
  <dc:description/>
  <dc:language>en-US</dc:language>
  <cp:lastModifiedBy> </cp:lastModifiedBy>
  <dcterms:modified xsi:type="dcterms:W3CDTF">2008-04-28T14:42:55Z</dcterms:modified>
  <cp:revision>40</cp:revision>
  <dc:subject/>
  <dc:title>Slide 1</dc:title>
</cp:coreProperties>
</file>