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58.wmf" ContentType="image/x-wmf"/>
  <Override PartName="/ppt/media/voltage.wav" ContentType="audio/x-wav"/>
  <Override PartName="/ppt/media/image57.wmf" ContentType="image/x-wmf"/>
  <Override PartName="/ppt/media/image56.png" ContentType="image/png"/>
  <Override PartName="/ppt/media/image40.jpeg" ContentType="image/jpeg"/>
  <Override PartName="/ppt/media/image55.wmf" ContentType="image/x-wmf"/>
  <Override PartName="/ppt/media/image49.jpeg" ContentType="image/jpeg"/>
  <Override PartName="/ppt/media/image85.gif" ContentType="image/gif"/>
  <Override PartName="/ppt/media/image48.jpeg" ContentType="image/jpeg"/>
  <Override PartName="/ppt/media/image75.gif" ContentType="image/gif"/>
  <Override PartName="/ppt/media/image78.png" ContentType="image/png"/>
  <Override PartName="/ppt/media/image47.gif" ContentType="image/gif"/>
  <Override PartName="/ppt/media/image26.jpeg" ContentType="image/jpeg"/>
  <Override PartName="/ppt/media/image46.jpeg" ContentType="image/jpeg"/>
  <Override PartName="/ppt/media/image44.jpeg" ContentType="image/jpeg"/>
  <Override PartName="/ppt/media/image60.wmf" ContentType="image/x-wmf"/>
  <Override PartName="/ppt/media/image43.jpeg" ContentType="image/jpeg"/>
  <Override PartName="/ppt/media/image50.wmf" ContentType="image/x-wmf"/>
  <Override PartName="/ppt/media/image42.gif" ContentType="image/gif"/>
  <Override PartName="/ppt/media/image34.gif" ContentType="image/gif"/>
  <Override PartName="/ppt/media/image33.gif" ContentType="image/gif"/>
  <Override PartName="/ppt/media/image9.jpeg" ContentType="image/jpeg"/>
  <Override PartName="/ppt/media/image32.gif" ContentType="image/gif"/>
  <Override PartName="/ppt/media/image30.jpeg" ContentType="image/jpeg"/>
  <Override PartName="/ppt/media/image29.gif" ContentType="image/gif"/>
  <Override PartName="/ppt/media/image54.wmf" ContentType="image/x-wmf"/>
  <Override PartName="/ppt/media/image31.gif" ContentType="image/gif"/>
  <Override PartName="/ppt/media/image11.jpeg" ContentType="image/jpeg"/>
  <Override PartName="/ppt/media/image87.jpeg" ContentType="image/jpeg"/>
  <Override PartName="/ppt/media/image21.jpeg" ContentType="image/jpeg"/>
  <Override PartName="/ppt/media/image69.wmf" ContentType="image/x-wmf"/>
  <Override PartName="/ppt/media/image20.gif" ContentType="image/gif"/>
  <Override PartName="/ppt/media/image14.png" ContentType="image/png"/>
  <Override PartName="/ppt/media/image17.jpeg" ContentType="image/jpeg"/>
  <Override PartName="/ppt/media/image7.png" ContentType="image/png"/>
  <Override PartName="/ppt/media/image76.gif" ContentType="image/gif"/>
  <Override PartName="/ppt/media/image25.jpeg" ContentType="image/jpeg"/>
  <Override PartName="/ppt/media/image62.wmf" ContentType="image/x-wmf"/>
  <Override PartName="/ppt/media/image59.gif" ContentType="image/gif"/>
  <Override PartName="/ppt/media/image84.wmf" ContentType="image/x-wmf"/>
  <Override PartName="/ppt/media/image13.jpeg" ContentType="image/jpeg"/>
  <Override PartName="/ppt/media/image61.wmf" ContentType="image/x-wmf"/>
  <Override PartName="/ppt/media/image86.gif" ContentType="image/gif"/>
  <Override PartName="/ppt/media/image10.jpeg" ContentType="image/jpeg"/>
  <Override PartName="/ppt/media/image27.jpeg" ContentType="image/jpeg"/>
  <Override PartName="/ppt/media/image65.wmf" ContentType="image/x-wmf"/>
  <Override PartName="/ppt/media/image19.gif" ContentType="image/gif"/>
  <Override PartName="/ppt/media/image81.wmf" ContentType="image/x-wmf"/>
  <Override PartName="/ppt/media/image79.gif" ContentType="image/gif"/>
  <Override PartName="/ppt/media/image67.wmf" ContentType="image/x-wmf"/>
  <Override PartName="/ppt/media/image74.png" ContentType="image/png"/>
  <Override PartName="/ppt/media/image77.wmf" ContentType="image/x-wmf"/>
  <Override PartName="/ppt/media/image16.jpeg" ContentType="image/jpeg"/>
  <Override PartName="/ppt/media/image73.wmf" ContentType="image/x-wmf"/>
  <Override PartName="/ppt/media/image71.wmf" ContentType="image/x-wmf"/>
  <Override PartName="/ppt/media/image66.wmf" ContentType="image/x-wmf"/>
  <Override PartName="/ppt/media/image64.wmf" ContentType="image/x-wmf"/>
  <Override PartName="/ppt/media/image63.wmf" ContentType="image/x-wmf"/>
  <Override PartName="/ppt/media/image6.gif" ContentType="image/gif"/>
  <Override PartName="/ppt/media/image83.gif" ContentType="image/gif"/>
  <Override PartName="/ppt/media/image18.gif" ContentType="image/gif"/>
  <Override PartName="/ppt/media/image2.jpeg" ContentType="image/jpeg"/>
  <Override PartName="/ppt/media/image36.jpeg" ContentType="image/jpeg"/>
  <Override PartName="/ppt/media/image24.jpeg" ContentType="image/jpeg"/>
  <Override PartName="/ppt/media/image52.wmf" ContentType="image/x-wmf"/>
  <Override PartName="/ppt/media/image3.jpeg" ContentType="image/jpeg"/>
  <Override PartName="/ppt/media/image37.jpeg" ContentType="image/jpeg"/>
  <Override PartName="/ppt/media/image80.gif" ContentType="image/gif"/>
  <Override PartName="/ppt/media/image15.gif" ContentType="image/gif"/>
  <Override PartName="/ppt/media/image4.png" ContentType="image/png"/>
  <Override PartName="/ppt/media/image12.jpeg" ContentType="image/jpeg"/>
  <Override PartName="/ppt/media/image41.gif" ContentType="image/gif"/>
  <Override PartName="/ppt/media/image53.wmf" ContentType="image/x-wmf"/>
  <Override PartName="/ppt/media/image28.gif" ContentType="image/gif"/>
  <Override PartName="/ppt/media/image23.jpeg" ContentType="image/jpeg"/>
  <Override PartName="/ppt/media/image5.gif" ContentType="image/gif"/>
  <Override PartName="/ppt/media/image38.jpeg" ContentType="image/jpeg"/>
  <Override PartName="/ppt/media/image8.jpeg" ContentType="image/jpeg"/>
  <Override PartName="/ppt/media/image70.wmf" ContentType="image/x-wmf"/>
  <Override PartName="/ppt/media/image45.gif" ContentType="image/gif"/>
  <Override PartName="/ppt/media/image39.jpeg" ContentType="image/jpeg"/>
  <Override PartName="/ppt/media/image82.png" ContentType="image/png"/>
  <Override PartName="/ppt/media/image72.gif" ContentType="image/gif"/>
  <Override PartName="/ppt/media/image22.jpeg" ContentType="image/jpeg"/>
  <Override PartName="/ppt/media/image1.jpeg" ContentType="image/jpeg"/>
  <Override PartName="/ppt/media/image68.wmf" ContentType="image/x-wmf"/>
  <Override PartName="/ppt/media/image35.jpeg" ContentType="image/jpeg"/>
  <Override PartName="/ppt/media/image51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9F44-67E0-489C-88FF-5E2CBA243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9716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5FC1-EBB0-45A7-B491-501B7F8AD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9716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409716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EC81-CE1F-4963-ADDE-7A05D05D2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18284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18284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9716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409716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409716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B9FB-8573-4FA0-A6BA-14843F4F7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04920" y="1828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arbabeHmkBol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104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arbabeHmkBol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04920" y="409716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828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2B86-C480-4FBE-80BB-23AC42637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7840" y="409716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04920" y="409716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04920" y="409716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409716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7840" y="409716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0680" y="18284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76080" y="18284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04920" y="409716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0680" y="409716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76080" y="409716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25C07-4077-4E6C-BB54-ADDD07C8E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920" y="1828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E9440-C56A-4C26-AAE6-ED0DE97A5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B1230-E1EC-4788-B652-AB8D8822A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A8B8C-6F2E-4172-A64E-ED8DAD127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52076-B121-4E60-AFC6-0368EB1A3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7C8F-1940-4B2F-B690-9BB1835F3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104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81B70-A08B-4A04-B0FC-67AEF0619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920" y="409716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8DF8A-9F68-4357-BE92-7D75BDD9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7840" y="409716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CBBF2-15DB-41B1-B705-2A43D35C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04920" y="409716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0C681-9834-4788-AE66-00635985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04920" y="409716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4821B-ACE4-4CB5-A51B-F2F6FBEA5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04920" y="409716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7840" y="409716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B534B-0751-4041-A1FE-66DAECED2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190680" y="18284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76080" y="18284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04920" y="409716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190680" y="409716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76080" y="409716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806C7-75E3-4176-9184-963511854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304920" y="1828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arbabeHmkBol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2664-1C73-404A-9075-659BD7522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104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arbabeHmkBol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04920" y="409716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7840" y="409716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920" y="409716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04920" y="409716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04920" y="409716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7840" y="409716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190680" y="18284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76080" y="18284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304920" y="409716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190680" y="409716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76080" y="409716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C6F2D-FC87-436B-9ECD-9A3D8FB06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99BE-9262-4FAB-9AF5-BE629880F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4920" y="1828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F4348-77B8-45E3-B80A-820072607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FE187-3A0F-4995-B656-43B21C006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221ED-A916-476E-9EE6-E19733C78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44703-5E3C-47B1-A3BC-52B752EA7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104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1D01A-736A-4D25-B510-4B949FCE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4920" y="409716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16E75-3C94-48E8-BCC7-8ACCE9DC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7840" y="409716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8A586-50B5-4419-B65C-F890F745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4920" y="409716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7F6DB-63D7-461B-8619-7F988F84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4920" y="409716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FDBBE-3D18-429D-87A2-65964FD84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4920" y="409716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7840" y="409716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82A6A-6FDC-49F5-B52E-BAD80B1F3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104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443C-9965-4401-816A-BB35D3E65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90680" y="18284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6080" y="18284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4920" y="409716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90680" y="409716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6080" y="409716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566D9-5270-48DE-8997-EA65E4AD6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33B72-0D9E-44CA-BBDF-43EEC9FD7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304920" y="1828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5B49A-940B-4615-8F69-0AFA773E4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B9F26-0CE8-4330-B1BC-896FFBDD2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E2C19-F112-406C-A656-C72289963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A95F3-655F-4632-AC41-061C05E75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104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3CCCE-4C34-4D46-BF95-7E033DDAC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04920" y="409716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A5C11-07DA-4D53-9E31-D0CC22F7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7840" y="409716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1E96F-7651-4ADA-9A16-89F458E6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304920" y="409716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A337B-6E94-4844-990D-942FA421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9716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FF4B-D4DC-4A61-B207-8D886F7F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04920" y="409716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E9D97-7655-4F80-857B-29327E922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4920" y="409716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7840" y="409716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1B151-7251-481D-96BE-FE1EE2D22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90680" y="18284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76080" y="18284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304920" y="409716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90680" y="409716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76080" y="409716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B3B7F-F005-4845-B4E2-BF298B759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10A60-A61C-41FF-A982-B83416FE8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304920" y="1828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2873E-E62F-4A9E-ABC7-617234AE6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70235-F10C-4DCA-91C0-60EDEB2A1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E59D8-C5DF-48C9-B38F-5B7A0E440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045D3-4951-4A53-8A8D-2D333C51E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104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D7DEC-B0D5-4B35-A100-10F2F2391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04920" y="409716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6DD69-80B6-4964-8CFC-36F0FCB2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409716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596B-74FE-4C79-B047-12433212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7840" y="409716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52ABB-ECAB-47E8-A185-824B296D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304920" y="409716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7DB87-1B28-427B-AFC4-796D8FFE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04920" y="409716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E681B-D83E-4658-91FA-A085357DE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304920" y="409716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7840" y="409716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28D5B-E9FB-4FC5-BF39-175CBB3C4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190680" y="18284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76080" y="18284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304920" y="409716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190680" y="409716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76080" y="409716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35B07-F39D-4087-BB86-5BDF52D51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7A09F6-8B00-4C17-89DF-7D0D8B4CD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304920" y="1828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9067E-4625-4883-A1AD-1FD51E292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E8034-78D5-4E9F-AC3E-BB11EC60E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88C6B-C25E-4D5C-8A1B-BB1533DA9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26AAD-8F09-40F3-BBB7-6ED5DE67A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9716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C6E1-0F6A-4097-94EE-BB41A67C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104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E1151-8F16-4305-A824-EF2740D02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304920" y="409716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A93F1-DC45-4765-A462-5E834610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7840" y="409716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54FF1-2A3C-4FD0-ABD6-04D198AB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304920" y="409716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EF825-4A03-44D6-980F-F8FA27B5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04920" y="409716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B94FC-B28E-4C8A-9E52-9F9939EA9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304920" y="409716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7840" y="409716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3654D-626E-4023-B306-40AF8640D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190680" y="18284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76080" y="18284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304920" y="409716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190680" y="409716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76080" y="409716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C1E223-E70C-4C7B-BB29-BC1F7ABFF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tarbabeHmkBol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828440"/>
            <a:ext cx="8534160" cy="43434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tarbabeHmk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tarbabeHmkBold"/>
              </a:rPr>
              <a:t>Click to edit the outline text format</a:t>
            </a: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StarbabeHmk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tarbabeHmkBold"/>
              </a:rPr>
              <a:t>Second Outline Level</a:t>
            </a: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StarbabeHmk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tarbabeHmkBold"/>
              </a:rPr>
              <a:t>Third Outline Level</a:t>
            </a: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StarbabeHmk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tarbabeHmkBold"/>
              </a:rPr>
              <a:t>Fourth Outline Level</a:t>
            </a: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StarbabeHmk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tarbabeHmkBold"/>
              </a:rPr>
              <a:t>Fifth Outline Level</a:t>
            </a: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StarbabeHmk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tarbabeHmkBold"/>
              </a:rPr>
              <a:t>Sixth Outline Level</a:t>
            </a: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StarbabeHmk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tarbabeHmkBold"/>
              </a:rPr>
              <a:t>Seventh Outline Level</a:t>
            </a: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238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StarbabeHmk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tarbabeHmkBold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400800"/>
            <a:ext cx="362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StarbabeHmk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tarbabeHmkBold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24480" y="6400800"/>
            <a:ext cx="238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StarbabeHmk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D9057-C0E4-454B-82AC-82A4508E78C3}" type="slidenum">
              <a:rPr b="0" lang="en-US" sz="1400" spc="-1" strike="noStrike">
                <a:solidFill>
                  <a:srgbClr val="ffffff"/>
                </a:solidFill>
                <a:latin typeface="StarbabeHmk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7086600" cy="3733920"/>
          </a:xfrm>
          <a:prstGeom prst="rect">
            <a:avLst/>
          </a:prstGeom>
          <a:solidFill>
            <a:srgbClr val="111111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StarbabeHmkBold"/>
              </a:rPr>
              <a:t>Click to edit the title text format</a:t>
            </a:r>
            <a:endParaRPr b="0" lang="en-US" sz="66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tarbabeHmk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StarbabeHmkBold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tarbabeHmkBold"/>
              </a:rPr>
              <a:t>Second Outline Level</a:t>
            </a:r>
            <a:endParaRPr b="0" i="1" lang="en-US" sz="2400" spc="-1" strike="noStrike">
              <a:solidFill>
                <a:srgbClr val="ffffff"/>
              </a:solidFill>
              <a:latin typeface="StarbabeHmkBold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StarbabeHmkBol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StarbabeHmkBold"/>
              </a:rPr>
              <a:t>Third Outline Level</a:t>
            </a:r>
            <a:endParaRPr b="0" i="1" lang="en-US" sz="2000" spc="-1" strike="noStrike">
              <a:solidFill>
                <a:srgbClr val="ffffff"/>
              </a:solidFill>
              <a:latin typeface="StarbabeHmkBold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StarbabeHmkBol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StarbabeHmkBold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StarbabeHmkBold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StarbabeHmkBold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StarbabeHmkBold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StarbabeHmkBold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StarbabeHmk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StarbabeHmkBold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StarbabeHmkBold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StarbabeHmk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StarbabeHmkBold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StarbabeHmk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0483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30456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66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66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9966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A0F47-41B3-4880-A6FF-FE895F4CA01E}" type="slidenum">
              <a:rPr b="0" lang="en-US" sz="2400" spc="-1" strike="noStrike">
                <a:solidFill>
                  <a:srgbClr val="996633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0483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45720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lvl="2" algn="ctr">
              <a:spcBef>
                <a:spcPts val="499"/>
              </a:spcBef>
              <a:buClr>
                <a:srgbClr val="99663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996633"/>
              </a:solidFill>
              <a:latin typeface="Arial"/>
            </a:endParaRPr>
          </a:p>
          <a:p>
            <a:pPr lvl="3" algn="ctr">
              <a:spcBef>
                <a:spcPts val="451"/>
              </a:spcBef>
              <a:buClr>
                <a:srgbClr val="99663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996633"/>
              </a:solidFill>
              <a:latin typeface="Arial"/>
            </a:endParaRPr>
          </a:p>
          <a:p>
            <a:pPr lvl="4" algn="ctr">
              <a:spcBef>
                <a:spcPts val="451"/>
              </a:spcBef>
              <a:buClr>
                <a:srgbClr val="99663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996633"/>
              </a:solidFill>
              <a:latin typeface="Arial"/>
            </a:endParaRPr>
          </a:p>
          <a:p>
            <a:pPr lvl="5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996633"/>
              </a:solidFill>
              <a:latin typeface="Arial"/>
            </a:endParaRPr>
          </a:p>
          <a:p>
            <a:pPr lvl="6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9966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>
            <a:lum contrast="6000"/>
          </a:blip>
          <a:srcRect l="10000" t="8898" r="11122" b="2224"/>
          <a:stretch/>
        </p:blipFill>
        <p:spPr>
          <a:xfrm>
            <a:off x="7115040" y="4572000"/>
            <a:ext cx="2028960" cy="2286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3AB8B-F559-4B75-A004-38B2D9E25D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2">
            <a:lum contrast="6000"/>
          </a:blip>
          <a:srcRect l="10000" t="8898" r="11122" b="2224"/>
          <a:stretch/>
        </p:blipFill>
        <p:spPr>
          <a:xfrm>
            <a:off x="0" y="762120"/>
            <a:ext cx="5410080" cy="609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4120" y="45684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35E51-9B34-42CC-9F88-54A73FB236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73F48-5448-4831-B276-1FF465E6BB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F1273-0E2D-4160-BC4D-4537F7D8A4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file:///tmp/home/.config/libreoffice/4/user/gallery/MSj03884700000%5B1%5D.wav" TargetMode="External"/><Relationship Id="rId3" Type="http://schemas.microsoft.com/office/2007/relationships/media" Target="file:///tmp/home/.config/libreoffice/4/user/gallery/MSj03884700000%5B1%5D.wav" TargetMode="External"/><Relationship Id="rId4" Type="http://schemas.openxmlformats.org/officeDocument/2006/relationships/image" Target="../media/image7.pn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audio" Target="../media/voltage.wav"/><Relationship Id="rId8" Type="http://schemas.openxmlformats.org/officeDocument/2006/relationships/slideLayout" Target="../slideLayouts/slideLayout7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5.jpe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7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7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image" Target="../media/image28.gif"/><Relationship Id="rId4" Type="http://schemas.openxmlformats.org/officeDocument/2006/relationships/image" Target="../media/image29.gif"/><Relationship Id="rId5" Type="http://schemas.openxmlformats.org/officeDocument/2006/relationships/image" Target="../media/image30.jpeg"/><Relationship Id="rId6" Type="http://schemas.openxmlformats.org/officeDocument/2006/relationships/audio" Target="../media/voltage.wav"/><Relationship Id="rId7" Type="http://schemas.openxmlformats.org/officeDocument/2006/relationships/slideLayout" Target="../slideLayouts/slideLayout7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1.gif"/><Relationship Id="rId3" Type="http://schemas.openxmlformats.org/officeDocument/2006/relationships/image" Target="../media/image32.gif"/><Relationship Id="rId4" Type="http://schemas.openxmlformats.org/officeDocument/2006/relationships/image" Target="../media/image33.gif"/><Relationship Id="rId5" Type="http://schemas.openxmlformats.org/officeDocument/2006/relationships/image" Target="../media/image34.gif"/><Relationship Id="rId6" Type="http://schemas.openxmlformats.org/officeDocument/2006/relationships/image" Target="../media/image35.jpeg"/><Relationship Id="rId7" Type="http://schemas.openxmlformats.org/officeDocument/2006/relationships/audio" Target="../media/voltage.wav"/><Relationship Id="rId8" Type="http://schemas.openxmlformats.org/officeDocument/2006/relationships/slideLayout" Target="../slideLayouts/slideLayout7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7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8.jpe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7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9.jpe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7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0.jpeg"/><Relationship Id="rId3" Type="http://schemas.openxmlformats.org/officeDocument/2006/relationships/image" Target="../media/image41.gif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7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2.gif"/><Relationship Id="rId3" Type="http://schemas.openxmlformats.org/officeDocument/2006/relationships/image" Target="../media/image43.jpeg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7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audio" Target="file:///tmp/home/.config/libreoffice/4/user/gallery/MSSN00623A0000%5B1%5D.wav" TargetMode="External"/><Relationship Id="rId5" Type="http://schemas.microsoft.com/office/2007/relationships/media" Target="file:///tmp/home/.config/libreoffice/4/user/gallery/MSSN00623A0000%5B1%5D.wav" TargetMode="External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audio" Target="../media/voltage.wav"/><Relationship Id="rId9" Type="http://schemas.openxmlformats.org/officeDocument/2006/relationships/slideLayout" Target="../slideLayouts/slideLayout7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4.jpe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7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5.gif"/><Relationship Id="rId3" Type="http://schemas.openxmlformats.org/officeDocument/2006/relationships/image" Target="../media/image46.jpeg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7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7.gif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audio" Target="../media/voltage.wav"/><Relationship Id="rId6" Type="http://schemas.openxmlformats.org/officeDocument/2006/relationships/slideLayout" Target="../slideLayouts/slideLayout7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0.wmf"/><Relationship Id="rId3" Type="http://schemas.openxmlformats.org/officeDocument/2006/relationships/image" Target="../media/image51.wmf"/><Relationship Id="rId4" Type="http://schemas.openxmlformats.org/officeDocument/2006/relationships/image" Target="../media/image52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53.wmf"/><Relationship Id="rId7" Type="http://schemas.openxmlformats.org/officeDocument/2006/relationships/image" Target="../media/image54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55.wmf"/><Relationship Id="rId10" Type="http://schemas.openxmlformats.org/officeDocument/2006/relationships/image" Target="../media/image56.png"/><Relationship Id="rId11" Type="http://schemas.openxmlformats.org/officeDocument/2006/relationships/image" Target="../media/image57.wmf"/><Relationship Id="rId12" Type="http://schemas.openxmlformats.org/officeDocument/2006/relationships/image" Target="../media/image58.wmf"/><Relationship Id="rId13" Type="http://schemas.openxmlformats.org/officeDocument/2006/relationships/image" Target="../media/image59.gif"/><Relationship Id="rId14" Type="http://schemas.openxmlformats.org/officeDocument/2006/relationships/audio" Target="../media/voltage.wav"/><Relationship Id="rId15" Type="http://schemas.openxmlformats.org/officeDocument/2006/relationships/slideLayout" Target="../slideLayouts/slideLayout7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0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61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62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63.wmf"/><Relationship Id="rId9" Type="http://schemas.openxmlformats.org/officeDocument/2006/relationships/image" Target="../media/image64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65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66.wmf"/><Relationship Id="rId14" Type="http://schemas.openxmlformats.org/officeDocument/2006/relationships/image" Target="../media/image67.wmf"/><Relationship Id="rId15" Type="http://schemas.openxmlformats.org/officeDocument/2006/relationships/image" Target="../media/image68.wmf"/><Relationship Id="rId16" Type="http://schemas.openxmlformats.org/officeDocument/2006/relationships/image" Target="../media/image69.wmf"/><Relationship Id="rId17" Type="http://schemas.openxmlformats.org/officeDocument/2006/relationships/image" Target="../media/image70.wmf"/><Relationship Id="rId18" Type="http://schemas.openxmlformats.org/officeDocument/2006/relationships/image" Target="../media/image71.wmf"/><Relationship Id="rId19" Type="http://schemas.openxmlformats.org/officeDocument/2006/relationships/audio" Target="../media/voltage.wav"/><Relationship Id="rId20" Type="http://schemas.openxmlformats.org/officeDocument/2006/relationships/slideLayout" Target="../slideLayouts/slideLayout7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3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3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2.gif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6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3.wmf"/><Relationship Id="rId2" Type="http://schemas.openxmlformats.org/officeDocument/2006/relationships/image" Target="../media/image68.wmf"/><Relationship Id="rId3" Type="http://schemas.openxmlformats.org/officeDocument/2006/relationships/image" Target="../media/image74.png"/><Relationship Id="rId4" Type="http://schemas.openxmlformats.org/officeDocument/2006/relationships/image" Target="../media/image74.png"/><Relationship Id="rId5" Type="http://schemas.openxmlformats.org/officeDocument/2006/relationships/image" Target="../media/image74.png"/><Relationship Id="rId6" Type="http://schemas.openxmlformats.org/officeDocument/2006/relationships/image" Target="../media/image74.png"/><Relationship Id="rId7" Type="http://schemas.openxmlformats.org/officeDocument/2006/relationships/audio" Target="../media/voltage.wav"/><Relationship Id="rId8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5.gif"/><Relationship Id="rId2" Type="http://schemas.openxmlformats.org/officeDocument/2006/relationships/image" Target="../media/image76.gif"/><Relationship Id="rId3" Type="http://schemas.openxmlformats.org/officeDocument/2006/relationships/image" Target="../media/image77.wmf"/><Relationship Id="rId4" Type="http://schemas.openxmlformats.org/officeDocument/2006/relationships/image" Target="../media/image78.png"/><Relationship Id="rId5" Type="http://schemas.openxmlformats.org/officeDocument/2006/relationships/image" Target="../media/image78.png"/><Relationship Id="rId6" Type="http://schemas.openxmlformats.org/officeDocument/2006/relationships/image" Target="../media/image79.gif"/><Relationship Id="rId7" Type="http://schemas.openxmlformats.org/officeDocument/2006/relationships/image" Target="../media/image78.png"/><Relationship Id="rId8" Type="http://schemas.openxmlformats.org/officeDocument/2006/relationships/image" Target="../media/image78.png"/><Relationship Id="rId9" Type="http://schemas.openxmlformats.org/officeDocument/2006/relationships/audio" Target="../media/voltage.wav"/><Relationship Id="rId10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jpe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7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0.gif"/><Relationship Id="rId2" Type="http://schemas.openxmlformats.org/officeDocument/2006/relationships/image" Target="../media/image81.wmf"/><Relationship Id="rId3" Type="http://schemas.openxmlformats.org/officeDocument/2006/relationships/image" Target="../media/image78.png"/><Relationship Id="rId4" Type="http://schemas.openxmlformats.org/officeDocument/2006/relationships/image" Target="../media/image78.png"/><Relationship Id="rId5" Type="http://schemas.openxmlformats.org/officeDocument/2006/relationships/image" Target="../media/image82.png"/><Relationship Id="rId6" Type="http://schemas.openxmlformats.org/officeDocument/2006/relationships/image" Target="../media/image82.png"/><Relationship Id="rId7" Type="http://schemas.openxmlformats.org/officeDocument/2006/relationships/audio" Target="../media/voltage.wav"/><Relationship Id="rId8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2.gif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6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3.gif"/><Relationship Id="rId2" Type="http://schemas.openxmlformats.org/officeDocument/2006/relationships/image" Target="../media/image84.wmf"/><Relationship Id="rId3" Type="http://schemas.openxmlformats.org/officeDocument/2006/relationships/image" Target="../media/image85.gif"/><Relationship Id="rId4" Type="http://schemas.openxmlformats.org/officeDocument/2006/relationships/image" Target="../media/image86.gif"/><Relationship Id="rId5" Type="http://schemas.openxmlformats.org/officeDocument/2006/relationships/image" Target="../media/image87.jpeg"/><Relationship Id="rId6" Type="http://schemas.openxmlformats.org/officeDocument/2006/relationships/image" Target="../media/image29.gif"/><Relationship Id="rId7" Type="http://schemas.openxmlformats.org/officeDocument/2006/relationships/audio" Target="../media/voltage.wav"/><Relationship Id="rId8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jpe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7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audio" Target="file:///tmp/home/.config/libreoffice/4/user/gallery/MSj03884640000%5B1%5D.wav" TargetMode="External"/><Relationship Id="rId5" Type="http://schemas.microsoft.com/office/2007/relationships/media" Target="file:///tmp/home/.config/libreoffice/4/user/gallery/MSj03884640000%5B1%5D.wav" TargetMode="External"/><Relationship Id="rId6" Type="http://schemas.openxmlformats.org/officeDocument/2006/relationships/image" Target="../media/image7.png"/><Relationship Id="rId7" Type="http://schemas.openxmlformats.org/officeDocument/2006/relationships/audio" Target="../media/voltage.wav"/><Relationship Id="rId8" Type="http://schemas.openxmlformats.org/officeDocument/2006/relationships/slideLayout" Target="../slideLayouts/slideLayout7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jpe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7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image" Target="../media/image15.gif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audio" Target="../media/voltage.wav"/><Relationship Id="rId7" Type="http://schemas.openxmlformats.org/officeDocument/2006/relationships/slideLayout" Target="../slideLayouts/slideLayout7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image" Target="../media/image20.gif"/><Relationship Id="rId5" Type="http://schemas.openxmlformats.org/officeDocument/2006/relationships/image" Target="../media/image14.png"/><Relationship Id="rId6" Type="http://schemas.openxmlformats.org/officeDocument/2006/relationships/image" Target="../media/image21.jpeg"/><Relationship Id="rId7" Type="http://schemas.openxmlformats.org/officeDocument/2006/relationships/audio" Target="../media/voltage.wav"/><Relationship Id="rId8" Type="http://schemas.openxmlformats.org/officeDocument/2006/relationships/slideLayout" Target="../slideLayouts/slideLayout7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2.jpe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7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71280" y="1125360"/>
            <a:ext cx="7086600" cy="3733920"/>
          </a:xfrm>
          <a:prstGeom prst="rect">
            <a:avLst/>
          </a:prstGeom>
          <a:solidFill>
            <a:srgbClr val="111111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ff"/>
                </a:solidFill>
                <a:latin typeface="Tahoma"/>
              </a:rPr>
              <a:t>ANIMALS</a:t>
            </a:r>
            <a:endParaRPr b="0" lang="en-US" sz="8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327" name=""/>
          <p:cNvSpPr/>
          <p:nvPr/>
        </p:nvSpPr>
        <p:spPr>
          <a:xfrm>
            <a:off x="4427640" y="5229360"/>
            <a:ext cx="4464000" cy="936360"/>
          </a:xfrm>
          <a:prstGeom prst="rect">
            <a:avLst/>
          </a:prstGeom>
          <a:solidFill>
            <a:srgbClr val="11111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Tahoma"/>
              </a:rPr>
              <a:t>The crocodil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  <p:sndAc>
      <p:stSnd>
        <p:snd r:embed="rId2" name="voltag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971640" y="4724280"/>
            <a:ext cx="4105080" cy="1440000"/>
          </a:xfrm>
          <a:prstGeom prst="rect">
            <a:avLst/>
          </a:prstGeom>
          <a:gradFill rotWithShape="0">
            <a:gsLst>
              <a:gs pos="0">
                <a:srgbClr val="566869"/>
              </a:gs>
              <a:gs pos="50000">
                <a:srgbClr val="e9a9d4"/>
              </a:gs>
              <a:gs pos="100000">
                <a:srgbClr val="566869"/>
              </a:gs>
            </a:gsLst>
            <a:lin ang="5400000"/>
          </a:gradFill>
          <a:ln w="41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990099"/>
                </a:solidFill>
                <a:latin typeface="Arial"/>
              </a:rPr>
              <a:t>TIGER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388360" y="6093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5"/>
          <a:stretch/>
        </p:blipFill>
        <p:spPr>
          <a:xfrm>
            <a:off x="395280" y="476280"/>
            <a:ext cx="4896000" cy="326376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6"/>
          <a:stretch/>
        </p:blipFill>
        <p:spPr>
          <a:xfrm>
            <a:off x="4859280" y="1773360"/>
            <a:ext cx="4284720" cy="285732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5292720" y="5734080"/>
            <a:ext cx="647640" cy="3589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  <p:sndAc>
      <p:stSnd>
        <p:snd r:embed="rId7" name="voltage.wav"/>
      </p:stSnd>
    </p:sndAc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4173" fill="hold"/>
                                        <p:tgtEl>
                                          <p:spTgt spid="3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365"/>
                </p:tgtEl>
              </p:cMediaNode>
            </p:audio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971640" y="4869000"/>
            <a:ext cx="4105080" cy="1439640"/>
          </a:xfrm>
          <a:prstGeom prst="rect">
            <a:avLst/>
          </a:prstGeom>
          <a:gradFill rotWithShape="0">
            <a:gsLst>
              <a:gs pos="0">
                <a:srgbClr val="566869"/>
              </a:gs>
              <a:gs pos="50000">
                <a:srgbClr val="f1f9a5"/>
              </a:gs>
              <a:gs pos="100000">
                <a:srgbClr val="566869"/>
              </a:gs>
            </a:gsLst>
            <a:lin ang="5400000"/>
          </a:gradFill>
          <a:ln w="41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ff9900"/>
                </a:solidFill>
                <a:latin typeface="Arial"/>
              </a:rPr>
              <a:t>DOG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2050920" y="0"/>
            <a:ext cx="4608720" cy="460836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5292720" y="5734080"/>
            <a:ext cx="647640" cy="3589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  <p:sndAc>
      <p:stSnd>
        <p:snd r:embed="rId3" name="voltage.wav"/>
      </p:stSnd>
    </p:sndAc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971640" y="4797360"/>
            <a:ext cx="4032000" cy="1440000"/>
          </a:xfrm>
          <a:prstGeom prst="rect">
            <a:avLst/>
          </a:prstGeom>
          <a:gradFill rotWithShape="0">
            <a:gsLst>
              <a:gs pos="0">
                <a:srgbClr val="566869"/>
              </a:gs>
              <a:gs pos="50000">
                <a:srgbClr val="c4edad"/>
              </a:gs>
              <a:gs pos="100000">
                <a:srgbClr val="566869"/>
              </a:gs>
            </a:gsLst>
            <a:lin ang="5400000"/>
          </a:gradFill>
          <a:ln w="41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7ca800"/>
                </a:solidFill>
                <a:latin typeface="Arial"/>
              </a:rPr>
              <a:t>CAT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5580000" y="1413000"/>
            <a:ext cx="3419640" cy="273348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3"/>
          <a:stretch/>
        </p:blipFill>
        <p:spPr>
          <a:xfrm>
            <a:off x="108000" y="820800"/>
            <a:ext cx="5473800" cy="397656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5292720" y="5734080"/>
            <a:ext cx="647640" cy="3589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  <p:sndAc>
      <p:stSnd>
        <p:snd r:embed="rId4" name="voltage.wav"/>
      </p:stSnd>
    </p:sndAc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900000" y="4797360"/>
            <a:ext cx="4105440" cy="1440000"/>
          </a:xfrm>
          <a:prstGeom prst="rect">
            <a:avLst/>
          </a:prstGeom>
          <a:gradFill rotWithShape="0">
            <a:gsLst>
              <a:gs pos="0">
                <a:srgbClr val="566869"/>
              </a:gs>
              <a:gs pos="50000">
                <a:srgbClr val="ff6565"/>
              </a:gs>
              <a:gs pos="100000">
                <a:srgbClr val="566869"/>
              </a:gs>
            </a:gsLst>
            <a:lin ang="5400000"/>
          </a:gradFill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ffffff"/>
                </a:solidFill>
                <a:latin typeface="Arial"/>
              </a:rPr>
              <a:t>FROG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8459640" y="6237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3"/>
          <a:stretch/>
        </p:blipFill>
        <p:spPr>
          <a:xfrm>
            <a:off x="7380360" y="765000"/>
            <a:ext cx="1603440" cy="108432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4"/>
          <a:stretch/>
        </p:blipFill>
        <p:spPr>
          <a:xfrm>
            <a:off x="6588000" y="2060640"/>
            <a:ext cx="1533600" cy="112212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5"/>
          <a:stretch/>
        </p:blipFill>
        <p:spPr>
          <a:xfrm>
            <a:off x="108000" y="620640"/>
            <a:ext cx="5832360" cy="388944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5292720" y="5734080"/>
            <a:ext cx="647640" cy="3589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  <p:sndAc>
      <p:stSnd>
        <p:snd r:embed="rId6" name="voltage.wav"/>
      </p:stSnd>
    </p:sndAc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4609" fill="hold"/>
                                        <p:tgtEl>
                                          <p:spTgt spid="3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0" y="4869000"/>
            <a:ext cx="5219640" cy="1224000"/>
          </a:xfrm>
          <a:prstGeom prst="rect">
            <a:avLst/>
          </a:prstGeom>
          <a:gradFill rotWithShape="0">
            <a:gsLst>
              <a:gs pos="0">
                <a:srgbClr val="566869"/>
              </a:gs>
              <a:gs pos="50000">
                <a:srgbClr val="ce9d6c"/>
              </a:gs>
              <a:gs pos="100000">
                <a:srgbClr val="566869"/>
              </a:gs>
            </a:gsLst>
            <a:lin ang="5400000"/>
          </a:gradFill>
          <a:ln w="4140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663300"/>
                </a:solidFill>
                <a:latin typeface="Arial"/>
              </a:rPr>
              <a:t>BUTTERFL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7451640" y="3679920"/>
            <a:ext cx="1131840" cy="102060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003640" y="549360"/>
            <a:ext cx="1297080" cy="81108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4"/>
          <a:stretch/>
        </p:blipFill>
        <p:spPr>
          <a:xfrm>
            <a:off x="7380360" y="1413000"/>
            <a:ext cx="1547640" cy="86832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5"/>
          <a:stretch/>
        </p:blipFill>
        <p:spPr>
          <a:xfrm>
            <a:off x="4716360" y="2349360"/>
            <a:ext cx="2089080" cy="171000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6"/>
          <a:stretch/>
        </p:blipFill>
        <p:spPr>
          <a:xfrm>
            <a:off x="727200" y="260280"/>
            <a:ext cx="3628800" cy="453708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5292720" y="5734080"/>
            <a:ext cx="647640" cy="3589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  <p:sndAc>
      <p:stSnd>
        <p:snd r:embed="rId7" name="voltage.wav"/>
      </p:stSnd>
    </p:sndAc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468360" y="4797360"/>
            <a:ext cx="4464000" cy="1295640"/>
          </a:xfrm>
          <a:prstGeom prst="rect">
            <a:avLst/>
          </a:prstGeom>
          <a:gradFill rotWithShape="0">
            <a:gsLst>
              <a:gs pos="0">
                <a:srgbClr val="566869"/>
              </a:gs>
              <a:gs pos="50000">
                <a:srgbClr val="f4b48c"/>
              </a:gs>
              <a:gs pos="100000">
                <a:srgbClr val="566869"/>
              </a:gs>
            </a:gsLst>
            <a:lin ang="5400000"/>
          </a:gradFill>
          <a:ln w="414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800000"/>
                </a:solidFill>
                <a:latin typeface="Arial"/>
              </a:rPr>
              <a:t>RABBIT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1162080" y="476280"/>
            <a:ext cx="2689200" cy="403236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3"/>
          <a:stretch/>
        </p:blipFill>
        <p:spPr>
          <a:xfrm>
            <a:off x="4154400" y="907920"/>
            <a:ext cx="4449960" cy="301968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5292720" y="5734080"/>
            <a:ext cx="647640" cy="3589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  <p:sndAc>
      <p:stSnd>
        <p:snd r:embed="rId4" name="voltage.wav"/>
      </p:stSnd>
    </p:sndAc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95280" y="4797360"/>
            <a:ext cx="4753080" cy="1440000"/>
          </a:xfrm>
          <a:prstGeom prst="rect">
            <a:avLst/>
          </a:prstGeom>
          <a:gradFill rotWithShape="0">
            <a:gsLst>
              <a:gs pos="0">
                <a:srgbClr val="566869"/>
              </a:gs>
              <a:gs pos="50000">
                <a:srgbClr val="f1ae7b"/>
              </a:gs>
              <a:gs pos="100000">
                <a:srgbClr val="566869"/>
              </a:gs>
            </a:gsLst>
            <a:lin ang="5400000"/>
          </a:gradFill>
          <a:ln w="414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b04700"/>
                </a:solidFill>
                <a:latin typeface="Arial"/>
              </a:rPr>
              <a:t>MOUS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1619280" y="620640"/>
            <a:ext cx="6697800" cy="415152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5292720" y="5734080"/>
            <a:ext cx="647640" cy="3589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  <p:sndAc>
      <p:stSnd>
        <p:snd r:embed="rId3" name="voltage.wav"/>
      </p:stSnd>
    </p:sndAc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826920" y="4797360"/>
            <a:ext cx="4105440" cy="14400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41400">
            <a:solidFill>
              <a:srgbClr val="00008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0033cc"/>
                </a:solidFill>
                <a:latin typeface="Arial"/>
              </a:rPr>
              <a:t>FOX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826920" y="523800"/>
            <a:ext cx="6121440" cy="408168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5292720" y="5734080"/>
            <a:ext cx="647640" cy="3589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  <p:sndAc>
      <p:stSnd>
        <p:snd r:embed="rId3" name="voltage.wav"/>
      </p:stSnd>
    </p:sndAc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71280" y="4869000"/>
            <a:ext cx="5148360" cy="1224000"/>
          </a:xfrm>
          <a:prstGeom prst="rect">
            <a:avLst/>
          </a:prstGeom>
          <a:gradFill rotWithShape="0">
            <a:gsLst>
              <a:gs pos="0">
                <a:srgbClr val="566869"/>
              </a:gs>
              <a:gs pos="50000">
                <a:srgbClr val="e9a9d4"/>
              </a:gs>
              <a:gs pos="100000">
                <a:srgbClr val="566869"/>
              </a:gs>
            </a:gsLst>
            <a:lin ang="5400000"/>
          </a:gradFill>
          <a:ln w="41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990099"/>
                </a:solidFill>
                <a:latin typeface="Arial"/>
              </a:rPr>
              <a:t>CHICKE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179280" y="789120"/>
            <a:ext cx="5761080" cy="381132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3"/>
          <a:stretch/>
        </p:blipFill>
        <p:spPr>
          <a:xfrm>
            <a:off x="6877080" y="981000"/>
            <a:ext cx="1942920" cy="144000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5292720" y="5734080"/>
            <a:ext cx="647640" cy="3589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  <p:sndAc>
      <p:stSnd>
        <p:snd r:embed="rId4" name="voltage.wav"/>
      </p:stSnd>
    </p:sndAc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250920" y="4797360"/>
            <a:ext cx="4754520" cy="1440000"/>
          </a:xfrm>
          <a:prstGeom prst="rect">
            <a:avLst/>
          </a:prstGeom>
          <a:gradFill rotWithShape="0">
            <a:gsLst>
              <a:gs pos="0">
                <a:srgbClr val="566869"/>
              </a:gs>
              <a:gs pos="50000">
                <a:srgbClr val="f1f9a5"/>
              </a:gs>
              <a:gs pos="100000">
                <a:srgbClr val="566869"/>
              </a:gs>
            </a:gsLst>
            <a:lin ang="5400000"/>
          </a:gradFill>
          <a:ln w="41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ff9900"/>
                </a:solidFill>
                <a:latin typeface="Arial"/>
              </a:rPr>
              <a:t>SPIDER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6659640" y="1700280"/>
            <a:ext cx="647640" cy="190476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3"/>
          <a:stretch/>
        </p:blipFill>
        <p:spPr>
          <a:xfrm>
            <a:off x="324000" y="476280"/>
            <a:ext cx="5688000" cy="41338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5292720" y="5734080"/>
            <a:ext cx="647640" cy="3589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  <p:sndAc>
      <p:stSnd>
        <p:snd r:embed="rId4" name="voltage.wav"/>
      </p:stSnd>
    </p:sndAc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826920" y="4797360"/>
            <a:ext cx="4105440" cy="14400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41400">
            <a:solidFill>
              <a:srgbClr val="00008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0033cc"/>
                </a:solidFill>
                <a:latin typeface="Arial"/>
              </a:rPr>
              <a:t>LIO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5076720" y="981000"/>
            <a:ext cx="1584360" cy="88416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6588000" y="2708280"/>
            <a:ext cx="1781280" cy="156852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317080" y="6165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7"/>
          <a:stretch/>
        </p:blipFill>
        <p:spPr>
          <a:xfrm>
            <a:off x="1397160" y="260280"/>
            <a:ext cx="3030480" cy="44640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5292720" y="5734080"/>
            <a:ext cx="647640" cy="3589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  <p:sndAc>
      <p:stSnd>
        <p:snd r:embed="rId8" name="voltag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627" fill="hold"/>
                                        <p:tgtEl>
                                          <p:spTgt spid="3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331"/>
                </p:tgtEl>
              </p:cMediaNode>
            </p:audio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179280" y="4797360"/>
            <a:ext cx="4969080" cy="1440000"/>
          </a:xfrm>
          <a:prstGeom prst="rect">
            <a:avLst/>
          </a:prstGeom>
          <a:gradFill rotWithShape="0">
            <a:gsLst>
              <a:gs pos="0">
                <a:srgbClr val="566869"/>
              </a:gs>
              <a:gs pos="50000">
                <a:srgbClr val="c4edad"/>
              </a:gs>
              <a:gs pos="100000">
                <a:srgbClr val="566869"/>
              </a:gs>
            </a:gsLst>
            <a:lin ang="5400000"/>
          </a:gradFill>
          <a:ln w="41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7ca800"/>
                </a:solidFill>
                <a:latin typeface="Arial"/>
              </a:rPr>
              <a:t>SNAK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2"/>
          <a:stretch/>
        </p:blipFill>
        <p:spPr>
          <a:xfrm>
            <a:off x="250920" y="692280"/>
            <a:ext cx="7057800" cy="355104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5292720" y="5734080"/>
            <a:ext cx="647640" cy="3589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  <p:sndAc>
      <p:stSnd>
        <p:snd r:embed="rId3" name="voltage.wav"/>
      </p:stSnd>
    </p:sndAc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395280" y="4797360"/>
            <a:ext cx="4753080" cy="1440000"/>
          </a:xfrm>
          <a:prstGeom prst="rect">
            <a:avLst/>
          </a:prstGeom>
          <a:gradFill rotWithShape="0">
            <a:gsLst>
              <a:gs pos="0">
                <a:srgbClr val="566869"/>
              </a:gs>
              <a:gs pos="50000">
                <a:srgbClr val="f1ae7b"/>
              </a:gs>
              <a:gs pos="100000">
                <a:srgbClr val="566869"/>
              </a:gs>
            </a:gsLst>
            <a:lin ang="5400000"/>
          </a:gradFill>
          <a:ln w="414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b04700"/>
                </a:solidFill>
                <a:latin typeface="Arial"/>
              </a:rPr>
              <a:t>HORS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2"/>
          <a:stretch/>
        </p:blipFill>
        <p:spPr>
          <a:xfrm>
            <a:off x="6372360" y="2421000"/>
            <a:ext cx="2251080" cy="142704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5473440" cy="428796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5292720" y="5734080"/>
            <a:ext cx="647640" cy="3589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  <p:sndAc>
      <p:stSnd>
        <p:snd r:embed="rId4" name="voltage.wav"/>
      </p:stSnd>
    </p:sndAc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108000" y="4797360"/>
            <a:ext cx="5148360" cy="1511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414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0033cc"/>
                </a:solidFill>
                <a:latin typeface="Arial"/>
              </a:rPr>
              <a:t>GIRAFF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6732720" y="3141720"/>
            <a:ext cx="2087280" cy="163044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3030480" cy="453528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4"/>
          <a:stretch/>
        </p:blipFill>
        <p:spPr>
          <a:xfrm>
            <a:off x="3419640" y="260280"/>
            <a:ext cx="4176720" cy="27990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5292720" y="5734080"/>
            <a:ext cx="647640" cy="3589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  <p:sndAc>
      <p:stSnd>
        <p:snd r:embed="rId5" name="voltage.wav"/>
      </p:stSnd>
    </p:sndAc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2195640" y="189000"/>
            <a:ext cx="1692000" cy="182232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3"/>
          <a:stretch/>
        </p:blipFill>
        <p:spPr>
          <a:xfrm>
            <a:off x="4284720" y="620640"/>
            <a:ext cx="1830240" cy="147492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4"/>
          <a:stretch/>
        </p:blipFill>
        <p:spPr>
          <a:xfrm>
            <a:off x="6419880" y="333360"/>
            <a:ext cx="2724120" cy="173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2" name=""/>
          <p:cNvGraphicFramePr/>
          <p:nvPr/>
        </p:nvGraphicFramePr>
        <p:xfrm>
          <a:off x="250920" y="549360"/>
          <a:ext cx="1296720" cy="112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0920" y="549360"/>
                    <a:ext cx="1296720" cy="11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24" name="" descr=""/>
          <p:cNvPicPr/>
          <p:nvPr/>
        </p:nvPicPr>
        <p:blipFill>
          <a:blip r:embed="rId7"/>
          <a:stretch/>
        </p:blipFill>
        <p:spPr>
          <a:xfrm>
            <a:off x="2124000" y="2492280"/>
            <a:ext cx="1941480" cy="2376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5" name=""/>
          <p:cNvGraphicFramePr/>
          <p:nvPr/>
        </p:nvGraphicFramePr>
        <p:xfrm>
          <a:off x="395280" y="1989000"/>
          <a:ext cx="1471680" cy="1657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2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5280" y="1989000"/>
                    <a:ext cx="147168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27" name="Picture 5" descr=""/>
          <p:cNvPicPr/>
          <p:nvPr/>
        </p:nvPicPr>
        <p:blipFill>
          <a:blip r:embed="rId10"/>
          <a:stretch/>
        </p:blipFill>
        <p:spPr>
          <a:xfrm>
            <a:off x="6948360" y="2205000"/>
            <a:ext cx="1806840" cy="230508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11"/>
          <a:stretch/>
        </p:blipFill>
        <p:spPr>
          <a:xfrm>
            <a:off x="324000" y="4437000"/>
            <a:ext cx="2400120" cy="220032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12"/>
          <a:stretch/>
        </p:blipFill>
        <p:spPr>
          <a:xfrm>
            <a:off x="3276720" y="5373720"/>
            <a:ext cx="1854000" cy="57924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13"/>
          <a:stretch/>
        </p:blipFill>
        <p:spPr>
          <a:xfrm>
            <a:off x="6084720" y="3933720"/>
            <a:ext cx="1152720" cy="97956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4140360" y="2565360"/>
            <a:ext cx="2303280" cy="1511280"/>
          </a:xfrm>
          <a:prstGeom prst="wedgeEllipseCallout">
            <a:avLst>
              <a:gd name="adj1" fmla="val 38560"/>
              <a:gd name="adj2" fmla="val 49055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22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356000" y="2637000"/>
            <a:ext cx="1820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Comic Sans MS"/>
              </a:rPr>
              <a:t>Which animals do you remember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292720" y="5734080"/>
            <a:ext cx="647640" cy="3589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  <p:sndAc>
      <p:stSnd>
        <p:snd r:embed="rId14" name="voltage.wav"/>
      </p:stSnd>
    </p:sndAc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" descr=""/>
          <p:cNvPicPr/>
          <p:nvPr/>
        </p:nvPicPr>
        <p:blipFill>
          <a:blip r:embed="rId2"/>
          <a:stretch/>
        </p:blipFill>
        <p:spPr>
          <a:xfrm>
            <a:off x="539640" y="404640"/>
            <a:ext cx="1368360" cy="136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5" name=""/>
          <p:cNvGraphicFramePr/>
          <p:nvPr/>
        </p:nvGraphicFramePr>
        <p:xfrm>
          <a:off x="324000" y="2205000"/>
          <a:ext cx="1333440" cy="151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2205000"/>
                    <a:ext cx="133344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7" name=""/>
          <p:cNvGraphicFramePr/>
          <p:nvPr/>
        </p:nvGraphicFramePr>
        <p:xfrm>
          <a:off x="2268360" y="2565360"/>
          <a:ext cx="1582920" cy="1406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68360" y="2565360"/>
                    <a:ext cx="1582920" cy="14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9" name=""/>
          <p:cNvGraphicFramePr/>
          <p:nvPr/>
        </p:nvGraphicFramePr>
        <p:xfrm>
          <a:off x="5148360" y="404640"/>
          <a:ext cx="1271520" cy="122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48360" y="404640"/>
                    <a:ext cx="1271520" cy="12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1" name="" descr=""/>
          <p:cNvPicPr/>
          <p:nvPr/>
        </p:nvPicPr>
        <p:blipFill>
          <a:blip r:embed="rId9"/>
          <a:stretch/>
        </p:blipFill>
        <p:spPr>
          <a:xfrm>
            <a:off x="7451640" y="3141720"/>
            <a:ext cx="1619280" cy="1166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2" name=""/>
          <p:cNvGraphicFramePr/>
          <p:nvPr/>
        </p:nvGraphicFramePr>
        <p:xfrm>
          <a:off x="7467480" y="762120"/>
          <a:ext cx="1222560" cy="14428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4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467480" y="762120"/>
                    <a:ext cx="122256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4" name=""/>
          <p:cNvGraphicFramePr/>
          <p:nvPr/>
        </p:nvGraphicFramePr>
        <p:xfrm>
          <a:off x="165240" y="4724280"/>
          <a:ext cx="1503360" cy="15843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65240" y="4724280"/>
                    <a:ext cx="150336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6" name="" descr=""/>
          <p:cNvPicPr/>
          <p:nvPr/>
        </p:nvPicPr>
        <p:blipFill>
          <a:blip r:embed="rId14"/>
          <a:stretch/>
        </p:blipFill>
        <p:spPr>
          <a:xfrm>
            <a:off x="2411280" y="476280"/>
            <a:ext cx="1827360" cy="149868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15"/>
          <a:stretch/>
        </p:blipFill>
        <p:spPr>
          <a:xfrm>
            <a:off x="4140360" y="1916280"/>
            <a:ext cx="1616040" cy="136188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16"/>
          <a:stretch/>
        </p:blipFill>
        <p:spPr>
          <a:xfrm>
            <a:off x="2124000" y="4653000"/>
            <a:ext cx="1513080" cy="175428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17"/>
          <a:stretch/>
        </p:blipFill>
        <p:spPr>
          <a:xfrm>
            <a:off x="3708360" y="3933720"/>
            <a:ext cx="1608120" cy="164160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18"/>
          <a:stretch/>
        </p:blipFill>
        <p:spPr>
          <a:xfrm>
            <a:off x="5796000" y="2276640"/>
            <a:ext cx="1403280" cy="20746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5292720" y="5734080"/>
            <a:ext cx="647640" cy="3589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  <p:sndAc>
      <p:stSnd>
        <p:snd r:embed="rId19" name="voltage.wav"/>
      </p:stSnd>
    </p:sndAc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940000" y="1484280"/>
            <a:ext cx="320364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Arial"/>
              </a:rPr>
              <a:t>WHICH IS YOUR </a:t>
            </a:r>
            <a:r>
              <a:rPr b="1" i="1" lang="en-GB" sz="4000" spc="-1" strike="noStrike">
                <a:solidFill>
                  <a:srgbClr val="cc0000"/>
                </a:solidFill>
                <a:latin typeface="Arial"/>
              </a:rPr>
              <a:t>FAVOURITE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</a:rPr>
              <a:t> ANIMAL?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1" name="voltage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5867280" y="765000"/>
            <a:ext cx="3276720" cy="2376720"/>
          </a:xfrm>
          <a:prstGeom prst="wedgeEllipseCallout">
            <a:avLst>
              <a:gd name="adj1" fmla="val -48013"/>
              <a:gd name="adj2" fmla="val 80393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11640" y="765000"/>
            <a:ext cx="2987640" cy="20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333399"/>
                </a:solidFill>
                <a:latin typeface="Arial"/>
              </a:rPr>
              <a:t>MY </a:t>
            </a:r>
            <a:r>
              <a:rPr b="1" i="1" lang="en-GB" sz="3000" spc="-1" strike="noStrike">
                <a:solidFill>
                  <a:srgbClr val="cc0000"/>
                </a:solidFill>
                <a:latin typeface="Arial"/>
              </a:rPr>
              <a:t>FAVOURITE</a:t>
            </a:r>
            <a:r>
              <a:rPr b="1" i="1" lang="en-GB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GB" sz="3000" spc="-1" strike="noStrike">
                <a:solidFill>
                  <a:srgbClr val="333399"/>
                </a:solidFill>
                <a:latin typeface="Arial"/>
              </a:rPr>
              <a:t>ANIMAL IS…</a:t>
            </a:r>
            <a:br>
              <a:rPr sz="3000"/>
            </a:br>
            <a:r>
              <a:rPr b="1" i="1" lang="en-GB" sz="3000" spc="-1" strike="noStrike">
                <a:solidFill>
                  <a:srgbClr val="333399"/>
                </a:solidFill>
                <a:latin typeface="Arial"/>
              </a:rPr>
              <a:t>THE GIRAFF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1" name="voltage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50000">
              <a:srgbClr val="767676"/>
            </a:gs>
            <a:gs pos="100000">
              <a:srgbClr val="ff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55280" y="1052640"/>
            <a:ext cx="381636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0" spc="-1" strike="noStrike">
                <a:solidFill>
                  <a:srgbClr val="000000"/>
                </a:solidFill>
                <a:latin typeface="Arial Unicode MS"/>
              </a:rPr>
              <a:t>HOW DO ANIMALS </a:t>
            </a:r>
            <a:r>
              <a:rPr b="0" i="1" lang="en-GB" sz="6000" spc="-1" strike="noStrike">
                <a:solidFill>
                  <a:srgbClr val="990099"/>
                </a:solidFill>
                <a:latin typeface="Arial Unicode MS"/>
              </a:rPr>
              <a:t>MOVE</a:t>
            </a:r>
            <a:r>
              <a:rPr b="0" i="1" lang="en-GB" sz="6000" spc="-1" strike="noStrike">
                <a:solidFill>
                  <a:srgbClr val="000000"/>
                </a:solidFill>
                <a:latin typeface="Arial Unicode MS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4427640" y="3141720"/>
            <a:ext cx="3132000" cy="3386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  <p:sndAc>
      <p:stSnd>
        <p:snd r:embed="rId2" name="voltage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7236000" y="0"/>
            <a:ext cx="1552320" cy="681372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2"/>
          <a:stretch/>
        </p:blipFill>
        <p:spPr>
          <a:xfrm rot="1959600">
            <a:off x="900000" y="4224240"/>
            <a:ext cx="3127320" cy="263376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 txBox="1"/>
          <p:nvPr/>
        </p:nvSpPr>
        <p:spPr>
          <a:xfrm>
            <a:off x="900000" y="2708280"/>
            <a:ext cx="2808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OW</a:t>
            </a:r>
            <a:endParaRPr b="0" lang="en-US" sz="2400" spc="1" strike="noStrike">
              <a:ln w="3816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140360" y="333360"/>
            <a:ext cx="2808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ALL</a:t>
            </a:r>
            <a:endParaRPr b="0" lang="en-US" sz="2400" spc="1" strike="noStrike">
              <a:ln w="3816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1258920" y="3789360"/>
            <a:ext cx="1944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660066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like a fox</a:t>
            </a:r>
            <a:endParaRPr b="0" lang="en-US" sz="2400" spc="1" strike="noStrike">
              <a:ln w="19080">
                <a:solidFill>
                  <a:srgbClr val="660066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788000" y="1484280"/>
            <a:ext cx="1944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660066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like a giraffe</a:t>
            </a:r>
            <a:endParaRPr b="0" lang="en-US" sz="2400" spc="1" strike="noStrike">
              <a:ln w="19080">
                <a:solidFill>
                  <a:srgbClr val="660066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blinds dir="horz"/>
    <p:sndAc>
      <p:stSnd>
        <p:snd r:embed="rId7" name="voltage.wav"/>
      </p:stSnd>
    </p:sndAc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7667640" y="404640"/>
            <a:ext cx="1008000" cy="96372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2"/>
          <a:stretch/>
        </p:blipFill>
        <p:spPr>
          <a:xfrm>
            <a:off x="4140360" y="2492280"/>
            <a:ext cx="1989000" cy="133848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3"/>
          <a:stretch/>
        </p:blipFill>
        <p:spPr>
          <a:xfrm>
            <a:off x="5867280" y="2924280"/>
            <a:ext cx="2562480" cy="361296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 txBox="1"/>
          <p:nvPr/>
        </p:nvSpPr>
        <p:spPr>
          <a:xfrm>
            <a:off x="4138560" y="476280"/>
            <a:ext cx="3313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QUICKLY</a:t>
            </a:r>
            <a:endParaRPr b="0" lang="en-US" sz="2400" spc="1" strike="noStrike">
              <a:ln w="3816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4788000" y="1557360"/>
            <a:ext cx="23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660066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like a monkey</a:t>
            </a:r>
            <a:endParaRPr b="0" lang="en-US" sz="2400" spc="1" strike="noStrike">
              <a:ln w="19080">
                <a:solidFill>
                  <a:srgbClr val="660066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6"/>
          <a:stretch/>
        </p:blipFill>
        <p:spPr>
          <a:xfrm>
            <a:off x="395280" y="5445000"/>
            <a:ext cx="1873080" cy="94320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 txBox="1"/>
          <p:nvPr/>
        </p:nvSpPr>
        <p:spPr>
          <a:xfrm>
            <a:off x="611280" y="3500280"/>
            <a:ext cx="3313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LOWLY</a:t>
            </a:r>
            <a:endParaRPr b="0" lang="en-US" sz="2400" spc="1" strike="noStrike">
              <a:ln w="3816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1042920" y="4653000"/>
            <a:ext cx="2376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660066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like a turtle</a:t>
            </a:r>
            <a:endParaRPr b="0" lang="en-US" sz="2400" spc="1" strike="noStrike">
              <a:ln w="19080">
                <a:solidFill>
                  <a:srgbClr val="660066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blinds dir="horz"/>
    <p:sndAc>
      <p:stSnd>
        <p:snd r:embed="rId9" name="voltage.wav"/>
      </p:stSnd>
    </p:sndAc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847 0.03052 L 0.22153 0.03052 E">
                                      <p:cBhvr>
                                        <p:cTn id="413" dur="2000" fill="hold"/>
                                        <p:tgtEl>
                                          <p:spTgt spid="4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826920" y="4797360"/>
            <a:ext cx="4105440" cy="1440000"/>
          </a:xfrm>
          <a:prstGeom prst="rect">
            <a:avLst/>
          </a:prstGeom>
          <a:gradFill rotWithShape="0">
            <a:gsLst>
              <a:gs pos="0">
                <a:srgbClr val="566869"/>
              </a:gs>
              <a:gs pos="50000">
                <a:srgbClr val="e9a9d4"/>
              </a:gs>
              <a:gs pos="100000">
                <a:srgbClr val="566869"/>
              </a:gs>
            </a:gsLst>
            <a:lin ang="5400000"/>
          </a:gradFill>
          <a:ln w="41400">
            <a:solidFill>
              <a:srgbClr val="80008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990099"/>
                </a:solidFill>
                <a:latin typeface="Arial"/>
              </a:rPr>
              <a:t>ZEBR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826920" y="765000"/>
            <a:ext cx="5545440" cy="367848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5292720" y="5734080"/>
            <a:ext cx="647640" cy="3589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  <p:sndAc>
      <p:stSnd>
        <p:snd r:embed="rId3" name="voltage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757080" y="3068640"/>
            <a:ext cx="3167280" cy="222876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2"/>
          <a:stretch/>
        </p:blipFill>
        <p:spPr>
          <a:xfrm>
            <a:off x="5796000" y="4941720"/>
            <a:ext cx="2644560" cy="118296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 txBox="1"/>
          <p:nvPr/>
        </p:nvSpPr>
        <p:spPr>
          <a:xfrm>
            <a:off x="754200" y="981000"/>
            <a:ext cx="3313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HEAVILY</a:t>
            </a:r>
            <a:endParaRPr b="0" lang="en-US" sz="2400" spc="1" strike="noStrike">
              <a:ln w="3816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5435640" y="2779560"/>
            <a:ext cx="3313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IGHTLY</a:t>
            </a:r>
            <a:endParaRPr b="0" lang="en-US" sz="2400" spc="1" strike="noStrike">
              <a:ln w="3816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5867280" y="3933720"/>
            <a:ext cx="2376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660066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like a mouse</a:t>
            </a:r>
            <a:endParaRPr b="0" lang="en-US" sz="2400" spc="1" strike="noStrike">
              <a:ln w="19080">
                <a:solidFill>
                  <a:srgbClr val="660066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826920" y="2276640"/>
            <a:ext cx="3095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660066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like an elephant</a:t>
            </a:r>
            <a:endParaRPr b="0" lang="en-US" sz="2400" spc="1" strike="noStrike">
              <a:ln w="19080">
                <a:solidFill>
                  <a:srgbClr val="660066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blinds dir="horz"/>
    <p:sndAc>
      <p:stSnd>
        <p:snd r:embed="rId7" name="voltage.wav"/>
      </p:stSnd>
    </p:sndAc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ff33cc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55640" y="1052640"/>
            <a:ext cx="396072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Arial Unicode MS"/>
              </a:rPr>
              <a:t>LET’S PAY ATTENTION TO THESE </a:t>
            </a:r>
            <a:r>
              <a:rPr b="0" i="1" lang="en-GB" sz="4400" spc="-1" strike="noStrike">
                <a:solidFill>
                  <a:srgbClr val="990099"/>
                </a:solidFill>
                <a:latin typeface="Arial Unicode MS"/>
              </a:rPr>
              <a:t>MOV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4067280" y="2997360"/>
            <a:ext cx="3132000" cy="3385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  <p:sndAc>
      <p:stSnd>
        <p:snd r:embed="rId2" name="voltage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2089080" cy="142236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2"/>
          <a:stretch/>
        </p:blipFill>
        <p:spPr>
          <a:xfrm>
            <a:off x="7596360" y="2637000"/>
            <a:ext cx="1795320" cy="158256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3"/>
          <a:stretch/>
        </p:blipFill>
        <p:spPr>
          <a:xfrm>
            <a:off x="5580000" y="4869000"/>
            <a:ext cx="2089080" cy="161928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4"/>
          <a:stretch/>
        </p:blipFill>
        <p:spPr>
          <a:xfrm>
            <a:off x="468360" y="4365720"/>
            <a:ext cx="1871640" cy="149040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 txBox="1"/>
          <p:nvPr/>
        </p:nvSpPr>
        <p:spPr>
          <a:xfrm>
            <a:off x="2340000" y="404640"/>
            <a:ext cx="1944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FLY</a:t>
            </a:r>
            <a:endParaRPr b="0" lang="en-US" sz="2400" spc="1" strike="noStrike">
              <a:ln w="3816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5"/>
          <a:stretch/>
        </p:blipFill>
        <p:spPr>
          <a:xfrm>
            <a:off x="179280" y="1916280"/>
            <a:ext cx="2376720" cy="172368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 txBox="1"/>
          <p:nvPr/>
        </p:nvSpPr>
        <p:spPr>
          <a:xfrm>
            <a:off x="2843280" y="2421000"/>
            <a:ext cx="2087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WIM</a:t>
            </a:r>
            <a:endParaRPr b="0" lang="en-US" sz="2400" spc="1" strike="noStrike">
              <a:ln w="3816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2771640" y="4149720"/>
            <a:ext cx="19447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GO ON </a:t>
            </a:r>
            <a:endParaRPr b="0" lang="en-US" sz="2400" spc="1" strike="noStrike">
              <a:ln w="3816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LL </a:t>
            </a:r>
            <a:endParaRPr b="0" lang="en-US" sz="2400" spc="1" strike="noStrike">
              <a:ln w="3816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FOURS</a:t>
            </a:r>
            <a:endParaRPr b="0" lang="en-US" sz="2400" spc="1" strike="noStrike">
              <a:ln w="3816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6"/>
          <a:stretch/>
        </p:blipFill>
        <p:spPr>
          <a:xfrm>
            <a:off x="7343640" y="5516640"/>
            <a:ext cx="1692360" cy="12380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 txBox="1"/>
          <p:nvPr/>
        </p:nvSpPr>
        <p:spPr>
          <a:xfrm>
            <a:off x="6659640" y="4005360"/>
            <a:ext cx="2160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JUMP</a:t>
            </a:r>
            <a:endParaRPr b="0" lang="en-US" sz="2400" spc="1" strike="noStrike">
              <a:ln w="3816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5724360" y="189000"/>
            <a:ext cx="2087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LITHER</a:t>
            </a:r>
            <a:endParaRPr b="0" lang="en-US" sz="2400" spc="1" strike="noStrike">
              <a:ln w="3816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blinds dir="horz"/>
    <p:sndAc>
      <p:stSnd>
        <p:snd r:embed="rId7" name="voltage.wav"/>
      </p:stSnd>
    </p:sndAc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316 -0.09453 C -0.09149 -0.11654 -0.09965 -0.13832 -0.12604 -0.14597 C -0.15243 -0.15338 -0.21875 -0.13253 -0.24115 -0.13971 C -0.26337 -0.14689 -0.2566 -0.18072 -0.25972 -0.18883 E">
                                      <p:cBhvr>
                                        <p:cTn id="456" dur="2000" fill="hold"/>
                                        <p:tgtEl>
                                          <p:spTgt spid="4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50920" y="1197000"/>
            <a:ext cx="8610480" cy="13716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Tahoma"/>
              </a:rPr>
              <a:t>See you!</a:t>
            </a:r>
            <a:endParaRPr b="0" lang="en-US" sz="8800" spc="-1" strike="noStrike">
              <a:solidFill>
                <a:srgbClr val="ffffff"/>
              </a:solidFill>
              <a:latin typeface="StarbabeHmkBold"/>
            </a:endParaRPr>
          </a:p>
        </p:txBody>
      </p:sp>
    </p:spTree>
  </p:cSld>
  <p:transition spd="med">
    <p:blinds dir="horz"/>
    <p:sndAc>
      <p:stSnd>
        <p:snd r:embed="rId2" name="voltag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826920" y="4797360"/>
            <a:ext cx="4105440" cy="1440000"/>
          </a:xfrm>
          <a:prstGeom prst="rect">
            <a:avLst/>
          </a:prstGeom>
          <a:gradFill rotWithShape="0">
            <a:gsLst>
              <a:gs pos="0">
                <a:srgbClr val="566869"/>
              </a:gs>
              <a:gs pos="50000">
                <a:srgbClr val="f1f9a5"/>
              </a:gs>
              <a:gs pos="100000">
                <a:srgbClr val="566869"/>
              </a:gs>
            </a:gsLst>
            <a:lin ang="5400000"/>
          </a:gradFill>
          <a:ln w="4140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ff9900"/>
                </a:solidFill>
                <a:latin typeface="Arial"/>
              </a:rPr>
              <a:t>BIR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828720" y="620640"/>
            <a:ext cx="5183280" cy="38880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5292720" y="5661000"/>
            <a:ext cx="647640" cy="43200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  <p:sndAc>
      <p:stSnd>
        <p:snd r:embed="rId3" name="voltage.wav"/>
      </p:stSnd>
    </p:sndAc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250920" y="4797360"/>
            <a:ext cx="4968720" cy="1440000"/>
          </a:xfrm>
          <a:prstGeom prst="rect">
            <a:avLst/>
          </a:prstGeom>
          <a:gradFill rotWithShape="0">
            <a:gsLst>
              <a:gs pos="0">
                <a:srgbClr val="566869"/>
              </a:gs>
              <a:gs pos="50000">
                <a:srgbClr val="c4edad"/>
              </a:gs>
              <a:gs pos="100000">
                <a:srgbClr val="566869"/>
              </a:gs>
            </a:gsLst>
            <a:lin ang="5400000"/>
          </a:gradFill>
          <a:ln w="41400">
            <a:solidFill>
              <a:srgbClr val="0033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7ca800"/>
                </a:solidFill>
                <a:latin typeface="Arial"/>
              </a:rPr>
              <a:t>PARRO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1116000" y="549360"/>
            <a:ext cx="2641680" cy="403200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5195880" y="476280"/>
            <a:ext cx="2687760" cy="403236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459640" y="602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5292720" y="5734080"/>
            <a:ext cx="647640" cy="3589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  <p:sndAc>
      <p:stSnd>
        <p:snd r:embed="rId7" name="voltage.wav"/>
      </p:stSnd>
    </p:sndAc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908" fill="hold"/>
                                        <p:tgtEl>
                                          <p:spTgt spid="3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343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826920" y="4797360"/>
            <a:ext cx="4105440" cy="1440000"/>
          </a:xfrm>
          <a:prstGeom prst="rect">
            <a:avLst/>
          </a:prstGeom>
          <a:gradFill rotWithShape="0">
            <a:gsLst>
              <a:gs pos="0">
                <a:srgbClr val="566869"/>
              </a:gs>
              <a:gs pos="50000">
                <a:srgbClr val="ff6565"/>
              </a:gs>
              <a:gs pos="100000">
                <a:srgbClr val="566869"/>
              </a:gs>
            </a:gsLst>
            <a:lin ang="5400000"/>
          </a:gradFill>
          <a:ln w="41400">
            <a:solidFill>
              <a:srgbClr val="ff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826920" y="896760"/>
            <a:ext cx="6336000" cy="361188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5292720" y="5734080"/>
            <a:ext cx="647640" cy="3589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  <p:sndAc>
      <p:stSnd>
        <p:snd r:embed="rId3" name="voltage.wav"/>
      </p:stSnd>
    </p:sndAc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-360" y="4797360"/>
            <a:ext cx="5219640" cy="1440000"/>
          </a:xfrm>
          <a:prstGeom prst="rect">
            <a:avLst/>
          </a:prstGeom>
          <a:gradFill rotWithShape="0">
            <a:gsLst>
              <a:gs pos="0">
                <a:srgbClr val="566869"/>
              </a:gs>
              <a:gs pos="50000">
                <a:srgbClr val="ce9d6c"/>
              </a:gs>
              <a:gs pos="100000">
                <a:srgbClr val="566869"/>
              </a:gs>
            </a:gsLst>
            <a:lin ang="5400000"/>
          </a:gradFill>
          <a:ln w="41400">
            <a:solidFill>
              <a:srgbClr val="6633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663300"/>
                </a:solidFill>
                <a:latin typeface="Arial"/>
              </a:rPr>
              <a:t>MONKEY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8459640" y="6093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8101080" y="3500280"/>
            <a:ext cx="676080" cy="10288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4"/>
          <a:stretch/>
        </p:blipFill>
        <p:spPr>
          <a:xfrm>
            <a:off x="1187280" y="333360"/>
            <a:ext cx="2857680" cy="433404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5"/>
          <a:stretch/>
        </p:blipFill>
        <p:spPr>
          <a:xfrm>
            <a:off x="4284720" y="333360"/>
            <a:ext cx="4465440" cy="294804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5292720" y="5734080"/>
            <a:ext cx="647640" cy="3589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  <p:sndAc>
      <p:stSnd>
        <p:snd r:embed="rId6" name="voltage.wav"/>
      </p:stSnd>
    </p:sndAc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6506" fill="hold"/>
                                        <p:tgtEl>
                                          <p:spTgt spid="3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-360" y="4797360"/>
            <a:ext cx="5219640" cy="1440000"/>
          </a:xfrm>
          <a:prstGeom prst="rect">
            <a:avLst/>
          </a:prstGeom>
          <a:gradFill rotWithShape="0">
            <a:gsLst>
              <a:gs pos="0">
                <a:srgbClr val="566869"/>
              </a:gs>
              <a:gs pos="50000">
                <a:srgbClr val="f4b48c"/>
              </a:gs>
              <a:gs pos="100000">
                <a:srgbClr val="566869"/>
              </a:gs>
            </a:gsLst>
            <a:lin ang="5400000"/>
          </a:gradFill>
          <a:ln w="41400">
            <a:solidFill>
              <a:srgbClr val="8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800000"/>
                </a:solidFill>
                <a:latin typeface="Arial"/>
              </a:rPr>
              <a:t>ELEPHAN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6877080" y="2708280"/>
            <a:ext cx="1341360" cy="114300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3"/>
          <a:stretch/>
        </p:blipFill>
        <p:spPr>
          <a:xfrm>
            <a:off x="5148360" y="1989000"/>
            <a:ext cx="1133280" cy="180036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4"/>
          <a:stretch/>
        </p:blipFill>
        <p:spPr>
          <a:xfrm>
            <a:off x="6588000" y="549360"/>
            <a:ext cx="1440000" cy="141912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5"/>
          <a:stretch/>
        </p:blipFill>
        <p:spPr>
          <a:xfrm>
            <a:off x="8459640" y="6093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6"/>
          <a:stretch/>
        </p:blipFill>
        <p:spPr>
          <a:xfrm>
            <a:off x="990720" y="0"/>
            <a:ext cx="3220920" cy="472428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5292720" y="5734080"/>
            <a:ext cx="647640" cy="3589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  <p:sndAc>
      <p:stSnd>
        <p:snd r:embed="rId7" name="voltage.wav"/>
      </p:stSnd>
    </p:sndAc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2982" fill="hold"/>
                                        <p:tgtEl>
                                          <p:spTgt spid="3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324000" y="4797360"/>
            <a:ext cx="4752720" cy="1440000"/>
          </a:xfrm>
          <a:prstGeom prst="rect">
            <a:avLst/>
          </a:prstGeom>
          <a:gradFill rotWithShape="0">
            <a:gsLst>
              <a:gs pos="0">
                <a:srgbClr val="566869"/>
              </a:gs>
              <a:gs pos="50000">
                <a:srgbClr val="f1ae7b"/>
              </a:gs>
              <a:gs pos="100000">
                <a:srgbClr val="566869"/>
              </a:gs>
            </a:gsLst>
            <a:lin ang="5400000"/>
          </a:gradFill>
          <a:ln w="41400">
            <a:solidFill>
              <a:srgbClr val="ff66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b04700"/>
                </a:solidFill>
                <a:latin typeface="Arial"/>
              </a:rPr>
              <a:t>TURTL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6192720" cy="40863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5292720" y="5734080"/>
            <a:ext cx="647640" cy="3589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  <p:sndAc>
      <p:stSnd>
        <p:snd r:embed="rId3" name="voltage.wav"/>
      </p:stSnd>
    </p:sndAc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6T15:39:49Z</dcterms:created>
  <dc:creator>Manager</dc:creator>
  <dc:description/>
  <dc:language>en-US</dc:language>
  <cp:lastModifiedBy> </cp:lastModifiedBy>
  <dcterms:modified xsi:type="dcterms:W3CDTF">2008-03-31T11:12:40Z</dcterms:modified>
  <cp:revision>32</cp:revision>
  <dc:subject/>
  <dc:title>Alligator Adventure!</dc:title>
</cp:coreProperties>
</file>