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laser.wav" ContentType="audio/x-wav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37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E26F-58A0-4BB7-9C6C-B6A8B822E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6019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590280"/>
            <a:ext cx="6019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CE63-DA79-4831-A3AD-224BC713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8720" y="159984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59028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8720" y="359028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45DD-5F0A-4344-9827-934EF8BB9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1938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59320" y="1599840"/>
            <a:ext cx="1938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95120" y="1599840"/>
            <a:ext cx="1938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590280"/>
            <a:ext cx="1938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59320" y="3590280"/>
            <a:ext cx="1938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95120" y="3590280"/>
            <a:ext cx="1938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5E78-B367-4ECA-AF3C-4258165D5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6262-CE08-49B3-81AA-2C96860B0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599840"/>
            <a:ext cx="60199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7F204-0E48-4DAF-99B9-0CA7CB3E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60199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9829-8968-41BF-BFEE-25F88237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293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08720" y="1599840"/>
            <a:ext cx="293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4363-0601-46B4-8361-91A78BF4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7C64-2626-42E6-87BD-3599E956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F7E0-02C3-48EA-B9A7-A72E52ED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08720" y="1599840"/>
            <a:ext cx="293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59028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9E54-76DB-4091-9C22-5AC4B175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599840"/>
            <a:ext cx="60199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0AC0-ED67-4B51-ABA3-8B6C0484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293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8720" y="159984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08720" y="359028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175D-1E59-45A0-AD86-1A901981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8720" y="159984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590280"/>
            <a:ext cx="6019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4848-8822-451B-8263-1039AC11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6019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590280"/>
            <a:ext cx="6019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ADDF-0D97-4360-AC36-8E51B8EF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8720" y="159984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59028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08720" y="359028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9474-A7A5-46C8-B3AC-708C7D705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1938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59320" y="1599840"/>
            <a:ext cx="1938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95120" y="1599840"/>
            <a:ext cx="1938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590280"/>
            <a:ext cx="1938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59320" y="3590280"/>
            <a:ext cx="1938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95120" y="3590280"/>
            <a:ext cx="1938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E612-7421-4F64-BB08-5C97733FA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5F81E-36B8-4B44-9A32-97D9F236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23880" y="1599840"/>
            <a:ext cx="60199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64525-27DB-4102-9639-C54C850B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60199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5A5F7-17D5-4DC8-B65E-7E7412C6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293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08720" y="1599840"/>
            <a:ext cx="293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5B941-73C9-475A-9C91-263568C8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E7985-0CE8-45E3-A9DF-1BD265D4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60199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3C71-09A9-426E-8C26-FBBB4C43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98E9F-4858-4C49-BC33-CFE9EEBC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08720" y="1599840"/>
            <a:ext cx="293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523880" y="359028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BD4B3-2388-40E6-98B1-6B8B23C6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293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08720" y="159984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08720" y="359028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90DF3-3A88-48F4-9F88-2AF42DFA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08720" y="159984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523880" y="3590280"/>
            <a:ext cx="6019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9554F-7B7F-47BB-B79D-ED94BE2C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6019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523880" y="3590280"/>
            <a:ext cx="6019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220AA-96C9-48EF-AF31-EC30F133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08720" y="159984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523880" y="359028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08720" y="359028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542FE-291B-4147-B90D-73F2862BD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1938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59320" y="1599840"/>
            <a:ext cx="1938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595120" y="1599840"/>
            <a:ext cx="1938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523880" y="3590280"/>
            <a:ext cx="1938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59320" y="3590280"/>
            <a:ext cx="1938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595120" y="3590280"/>
            <a:ext cx="1938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3870B-8481-4741-AE75-1A096F35B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12C02-2AA9-4F95-9BC5-173273C02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523880" y="1599840"/>
            <a:ext cx="60199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2A4ED-8753-4223-A79E-5258BFB2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60199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4B57E-70DC-46CC-92F7-FD8C9A00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293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8720" y="1599840"/>
            <a:ext cx="293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9C59-2D96-4100-910A-5C79CA52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293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08720" y="1599840"/>
            <a:ext cx="293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4B970-CB7E-4F3A-9339-FD57CABB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4BBCA-453E-4B5B-973B-62C3B014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DF905-368B-4087-B0FB-5183C8D4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08720" y="1599840"/>
            <a:ext cx="293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523880" y="359028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974D1-6E57-4D8A-A773-43FB3D63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293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08720" y="159984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08720" y="359028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7B01B-E8A9-4848-8156-A4A400B9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08720" y="159984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523880" y="3590280"/>
            <a:ext cx="6019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2CEC8-7264-417D-923E-B32C5E38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6019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523880" y="3590280"/>
            <a:ext cx="6019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33793-1B16-45DB-94C3-76E7E0ED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08720" y="159984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523880" y="359028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08720" y="359028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EE189-723C-46A8-8832-BB835FD80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1938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59320" y="1599840"/>
            <a:ext cx="1938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595120" y="1599840"/>
            <a:ext cx="1938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523880" y="3590280"/>
            <a:ext cx="1938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559320" y="3590280"/>
            <a:ext cx="1938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595120" y="3590280"/>
            <a:ext cx="1938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6938A-48E9-413C-9451-841C03429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3C05-6377-43BA-AC67-186F564B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F382-3F34-4062-9DFB-F94F8851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720" y="1599840"/>
            <a:ext cx="293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59028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F09B-7280-41A1-ADF4-4D437FA4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293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720" y="159984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8720" y="359028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5C1E-738F-4F03-84F1-0735E2C9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720" y="159984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590280"/>
            <a:ext cx="6019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647F-A462-4220-A00E-0B328E89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880" y="1599840"/>
            <a:ext cx="60199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spcBef>
                <a:spcPts val="10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ndy"/>
              </a:rPr>
              <a:t>Click to edit the outline text format</a:t>
            </a:r>
            <a:endParaRPr b="0" lang="en-US" sz="4000" spc="-1" strike="noStrike">
              <a:solidFill>
                <a:srgbClr val="333399"/>
              </a:solidFill>
              <a:latin typeface="Andy"/>
            </a:endParaRPr>
          </a:p>
          <a:p>
            <a:pPr lvl="1" marL="497520" indent="-191160">
              <a:spcBef>
                <a:spcPts val="1001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ndy"/>
              </a:rPr>
              <a:t>Second Outline Level</a:t>
            </a:r>
            <a:endParaRPr b="0" lang="en-US" sz="4000" spc="-1" strike="noStrike">
              <a:solidFill>
                <a:srgbClr val="333399"/>
              </a:solidFill>
              <a:latin typeface="Andy"/>
            </a:endParaRPr>
          </a:p>
          <a:p>
            <a:pPr lvl="2" marL="765720" indent="-153000">
              <a:spcBef>
                <a:spcPts val="10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ndy"/>
              </a:rPr>
              <a:t>Third Outline Level</a:t>
            </a:r>
            <a:endParaRPr b="0" lang="en-US" sz="4000" spc="-1" strike="noStrike">
              <a:solidFill>
                <a:srgbClr val="333399"/>
              </a:solidFill>
              <a:latin typeface="Andy"/>
            </a:endParaRPr>
          </a:p>
          <a:p>
            <a:pPr lvl="3" marL="1072080" indent="-153000">
              <a:spcBef>
                <a:spcPts val="1001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ndy"/>
              </a:rPr>
              <a:t>Fourth Outline Level</a:t>
            </a:r>
            <a:endParaRPr b="0" lang="en-US" sz="4000" spc="-1" strike="noStrike">
              <a:solidFill>
                <a:srgbClr val="333399"/>
              </a:solidFill>
              <a:latin typeface="Andy"/>
            </a:endParaRPr>
          </a:p>
          <a:p>
            <a:pPr lvl="4" marL="1378440" indent="-153000">
              <a:spcBef>
                <a:spcPts val="10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ndy"/>
              </a:rPr>
              <a:t>Fifth Outline Level</a:t>
            </a:r>
            <a:endParaRPr b="0" lang="en-US" sz="4000" spc="-1" strike="noStrike">
              <a:solidFill>
                <a:srgbClr val="333399"/>
              </a:solidFill>
              <a:latin typeface="Andy"/>
            </a:endParaRPr>
          </a:p>
          <a:p>
            <a:pPr lvl="5" marL="1378440" indent="-153000">
              <a:spcBef>
                <a:spcPts val="10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ndy"/>
              </a:rPr>
              <a:t>Sixth Outline Level</a:t>
            </a:r>
            <a:endParaRPr b="0" lang="en-US" sz="4000" spc="-1" strike="noStrike">
              <a:solidFill>
                <a:srgbClr val="333399"/>
              </a:solidFill>
              <a:latin typeface="Andy"/>
            </a:endParaRPr>
          </a:p>
          <a:p>
            <a:pPr lvl="6" marL="1378440" indent="-153000">
              <a:spcBef>
                <a:spcPts val="10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ndy"/>
              </a:rPr>
              <a:t>Seventh Outline Level</a:t>
            </a: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3112-8A89-483E-8B40-1B482AAF9D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ndy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ndy"/>
              </a:rPr>
              <a:t>Click to edit the title text format</a:t>
            </a:r>
            <a:endParaRPr b="0" lang="en-US" sz="72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6A7F-CD5C-43BA-A0E1-82E2AF1E11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ndy"/>
              </a:rPr>
              <a:t>Click to edit the outline text format</a:t>
            </a:r>
            <a:endParaRPr b="0" lang="en-US" sz="4400" spc="-1" strike="noStrike">
              <a:solidFill>
                <a:srgbClr val="333399"/>
              </a:solidFill>
              <a:latin typeface="Andy"/>
            </a:endParaRPr>
          </a:p>
          <a:p>
            <a:pPr lvl="1" marL="40680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ndy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Andy"/>
            </a:endParaRPr>
          </a:p>
          <a:p>
            <a:pPr lvl="2" marL="813600" algn="ctr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ndy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ndy"/>
            </a:endParaRPr>
          </a:p>
          <a:p>
            <a:pPr lvl="3" marL="1220400" algn="ctr">
              <a:spcBef>
                <a:spcPts val="700"/>
              </a:spcBef>
              <a:buClr>
                <a:srgbClr val="000000"/>
              </a:buClr>
              <a:buFont typeface="Andy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ndy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ndy"/>
            </a:endParaRPr>
          </a:p>
          <a:p>
            <a:pPr lvl="4" marL="1627560" algn="ctr">
              <a:spcBef>
                <a:spcPts val="700"/>
              </a:spcBef>
              <a:buClr>
                <a:srgbClr val="000000"/>
              </a:buClr>
              <a:buFont typeface="Andy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ndy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ndy"/>
            </a:endParaRPr>
          </a:p>
          <a:p>
            <a:pPr lvl="5" marL="1627560">
              <a:spcBef>
                <a:spcPts val="700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ndy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ndy"/>
            </a:endParaRPr>
          </a:p>
          <a:p>
            <a:pPr lvl="6" marL="1627560">
              <a:spcBef>
                <a:spcPts val="700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ndy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nd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gency FB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gency F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gency F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gency F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gency FB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gency FB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38D6-F6A5-4FEE-AE4B-6B1A87C13AE6}" type="slidenum">
              <a:rPr b="0" lang="en-GB" sz="1200" spc="-1" strike="noStrike">
                <a:solidFill>
                  <a:srgbClr val="000000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gency FB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gency FB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gency FB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EDBD-678C-4BD1-B62F-08A01F74C66C}" type="slidenum">
              <a:rPr b="0" lang="en-GB" sz="1200" spc="-1" strike="noStrike">
                <a:solidFill>
                  <a:srgbClr val="000000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C:\Documents and Settings\scap0s12\Local Settings\Temporary Internet Files\Content.IE5\TNE0XPGR\MCj00787930000[1].wmf"/>
          <p:cNvPicPr/>
          <p:nvPr/>
        </p:nvPicPr>
        <p:blipFill>
          <a:blip r:embed="rId2"/>
          <a:stretch/>
        </p:blipFill>
        <p:spPr>
          <a:xfrm>
            <a:off x="5651640" y="1413000"/>
            <a:ext cx="1942920" cy="10508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2124000" y="1628640"/>
            <a:ext cx="3086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3300">
                        <a:alpha val="50196"/>
                      </a:srgbClr>
                    </a:gs>
                    <a:gs pos="50000">
                      <a:srgbClr val="ffffff"/>
                    </a:gs>
                    <a:gs pos="100000">
                      <a:srgbClr val="ff3300">
                        <a:alpha val="50196"/>
                      </a:srgbClr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QUIPMENT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3300">
                      <a:alpha val="50196"/>
                    </a:srgbClr>
                  </a:gs>
                  <a:gs pos="50000">
                    <a:srgbClr val="ffffff"/>
                  </a:gs>
                  <a:gs pos="100000">
                    <a:srgbClr val="ff3300">
                      <a:alpha val="50196"/>
                    </a:srgbClr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51280" y="3357720"/>
            <a:ext cx="3085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3300">
                        <a:alpha val="50196"/>
                      </a:srgbClr>
                    </a:gs>
                    <a:gs pos="50000">
                      <a:srgbClr val="ffffff"/>
                    </a:gs>
                    <a:gs pos="100000">
                      <a:srgbClr val="ff3300">
                        <a:alpha val="50196"/>
                      </a:srgbClr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PPARATUS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3300">
                      <a:alpha val="50196"/>
                    </a:srgbClr>
                  </a:gs>
                  <a:gs pos="50000">
                    <a:srgbClr val="ffffff"/>
                  </a:gs>
                  <a:gs pos="100000">
                    <a:srgbClr val="ff3300">
                      <a:alpha val="50196"/>
                    </a:srgbClr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427640" y="2637000"/>
            <a:ext cx="1079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3300">
                        <a:alpha val="50196"/>
                      </a:srgbClr>
                    </a:gs>
                    <a:gs pos="50000">
                      <a:srgbClr val="ffffff"/>
                    </a:gs>
                    <a:gs pos="100000">
                      <a:srgbClr val="ff3300">
                        <a:alpha val="50196"/>
                      </a:srgbClr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nd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3300">
                      <a:alpha val="50196"/>
                    </a:srgbClr>
                  </a:gs>
                  <a:gs pos="50000">
                    <a:srgbClr val="ffffff"/>
                  </a:gs>
                  <a:gs pos="100000">
                    <a:srgbClr val="ff3300">
                      <a:alpha val="50196"/>
                    </a:srgbClr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9" name=""/>
          <p:cNvSpPr/>
          <p:nvPr/>
        </p:nvSpPr>
        <p:spPr>
          <a:xfrm>
            <a:off x="1908000" y="443700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60033"/>
                </a:solidFill>
                <a:latin typeface="Arial"/>
              </a:rPr>
              <a:t>In PHISICAL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  <p:sndAc>
      <p:stSnd>
        <p:snd r:embed="rId3" name="lase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103640" cy="30783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4103640" cy="30798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5292720" y="836640"/>
            <a:ext cx="3311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OFT BALL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219640" y="3789360"/>
            <a:ext cx="3384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VOLLEYBALL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horz"/>
    <p:sndAc>
      <p:stSnd>
        <p:snd r:embed="rId3" name="laser.wav"/>
      </p:stSnd>
    </p:sndAc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032000" cy="30258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324000" y="3643200"/>
            <a:ext cx="4032000" cy="30258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4932360" y="692280"/>
            <a:ext cx="367200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KIPPING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OPE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788000" y="3645000"/>
            <a:ext cx="367164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LONG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OPE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horz"/>
    <p:sndAc>
      <p:stSnd>
        <p:snd r:embed="rId3" name="laser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796000" y="2565360"/>
            <a:ext cx="3114720" cy="4149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961080" cy="2971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250920" y="3141720"/>
            <a:ext cx="2952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ACKET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ENNIS BALL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56000" y="4869000"/>
            <a:ext cx="3024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OCKEY STICK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UCK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43280" y="404640"/>
            <a:ext cx="29530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OODEN BAT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PONGE BALL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horz"/>
    <p:sndAc>
      <p:stSnd>
        <p:snd r:embed="rId3" name="laser.wav"/>
      </p:stSnd>
    </p:sndAc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2919600" cy="38894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796000" y="2637000"/>
            <a:ext cx="2916360" cy="38876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3708360" y="549360"/>
            <a:ext cx="3672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OPPY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OUNCER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258920" y="4292640"/>
            <a:ext cx="3672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EMPI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OWLING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horz"/>
    <p:sndAc>
      <p:stSnd>
        <p:snd r:embed="rId3" name="laser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033800" cy="30258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250920" y="3500280"/>
            <a:ext cx="4033800" cy="30258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4572000" y="765000"/>
            <a:ext cx="3959280" cy="20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AT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AFETY MATTRES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"/>
          <p:cNvSpPr txBox="1"/>
          <p:nvPr/>
        </p:nvSpPr>
        <p:spPr>
          <a:xfrm rot="21372600">
            <a:off x="4932360" y="4076280"/>
            <a:ext cx="331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62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ENCHE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62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horz"/>
    <p:sndAc>
      <p:stSnd>
        <p:snd r:embed="rId3" name="laser.wav"/>
      </p:stSnd>
    </p:sndAc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103640" cy="3078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324000" y="3573360"/>
            <a:ext cx="4103640" cy="30783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5148360" y="836640"/>
            <a:ext cx="27367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LID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148360" y="3429000"/>
            <a:ext cx="360036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PRINGBOARD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RAMPOLI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horz"/>
    <p:sndAc>
      <p:stSnd>
        <p:snd r:embed="rId3" name="laser.wav"/>
      </p:stSnd>
    </p:sndAc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68360" y="4941720"/>
            <a:ext cx="2736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ORS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5616360" cy="42130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5364000" y="3573360"/>
            <a:ext cx="2808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AR BOX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horz"/>
    <p:sndAc>
      <p:stSnd>
        <p:snd r:embed="rId2" name="laser.wav"/>
      </p:stSnd>
    </p:sndAc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68360" y="258840"/>
            <a:ext cx="4032360" cy="30258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932360" y="692280"/>
            <a:ext cx="367200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OODEN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AR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68360" y="3571920"/>
            <a:ext cx="4032360" cy="3025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5076720" y="3573360"/>
            <a:ext cx="3672000" cy="21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OODEN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ENCE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horz"/>
    <p:sndAc>
      <p:stSnd>
        <p:snd r:embed="rId3" name="laser.wav"/>
      </p:stSnd>
    </p:sndAc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176720" cy="31338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24000" y="3573360"/>
            <a:ext cx="4105080" cy="30798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5148360" y="907920"/>
            <a:ext cx="2736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AL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292720" y="3789360"/>
            <a:ext cx="27367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ASKE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horz"/>
    <p:sndAc>
      <p:stSnd>
        <p:snd r:embed="rId3" name="laser.wav"/>
      </p:stSnd>
    </p:sndAc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924360" y="404640"/>
            <a:ext cx="3600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EASURING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OST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050920" y="4365720"/>
            <a:ext cx="32418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UMP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CALE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724360" y="2708280"/>
            <a:ext cx="2897280" cy="38606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2917800" cy="38876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  <p:sndAc>
      <p:stSnd>
        <p:snd r:embed="rId3" name="laser.wav"/>
      </p:stSnd>
    </p:sndAc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900000" y="378936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5148360" y="907920"/>
            <a:ext cx="2736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ALL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219640" y="4076640"/>
            <a:ext cx="27370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OOP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horz"/>
    <p:sndAc>
      <p:stSnd>
        <p:snd r:embed="rId3" name="laser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249800" cy="31874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250920" y="3573360"/>
            <a:ext cx="4249800" cy="31892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219640" y="1052640"/>
            <a:ext cx="2952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ADIO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788000" y="3213000"/>
            <a:ext cx="38876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LASTIC BAND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EASURING TAP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horz"/>
    <p:sndAc>
      <p:stSnd>
        <p:snd r:embed="rId3" name="laser.wav"/>
      </p:stSnd>
    </p:sndAc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547640" y="1628640"/>
            <a:ext cx="626436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O YOU 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ANT 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O PLAY?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horz"/>
    <p:sndAc>
      <p:stSnd>
        <p:snd r:embed="rId2" name="laser.wav"/>
      </p:stSnd>
    </p:sndAc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3744720" cy="2809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940360" y="3141720"/>
            <a:ext cx="2702160" cy="36003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5148360" y="907920"/>
            <a:ext cx="2736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ONE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763640" y="4076640"/>
            <a:ext cx="27370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RICK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horz"/>
    <p:sndAc>
      <p:stSnd>
        <p:snd r:embed="rId3" name="laser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03236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68360" y="3645000"/>
            <a:ext cx="4032360" cy="3025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5292720" y="836640"/>
            <a:ext cx="27367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IB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219640" y="4005360"/>
            <a:ext cx="27370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LOTH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horz"/>
    <p:sndAc>
      <p:stSnd>
        <p:snd r:embed="rId3" name="laser.wav"/>
      </p:stSnd>
    </p:sndAc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4248360" cy="31874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9640" y="3500280"/>
            <a:ext cx="4248360" cy="3187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5148360" y="907920"/>
            <a:ext cx="2736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RISBEE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148360" y="3429000"/>
            <a:ext cx="33130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PONG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ISK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horz"/>
    <p:sndAc>
      <p:stSnd>
        <p:snd r:embed="rId3" name="laser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68360" y="3429000"/>
            <a:ext cx="4032360" cy="30243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4033800" cy="3025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5148360" y="907920"/>
            <a:ext cx="2736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QUOIT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219640" y="3933720"/>
            <a:ext cx="27370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ARKER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horz"/>
    <p:sndAc>
      <p:stSnd>
        <p:snd r:embed="rId3" name="laser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4248000" cy="3186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24000" y="3500280"/>
            <a:ext cx="4248000" cy="3187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5219640" y="4005360"/>
            <a:ext cx="27370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TILT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148360" y="836640"/>
            <a:ext cx="27367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TICK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horz"/>
    <p:sndAc>
      <p:stSnd>
        <p:snd r:embed="rId3" name="laser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959280" cy="2970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68360" y="3645000"/>
            <a:ext cx="3887640" cy="2916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4788000" y="836640"/>
            <a:ext cx="360036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ASEBALL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  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AT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219640" y="4005360"/>
            <a:ext cx="27370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USHION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horz"/>
    <p:sndAc>
      <p:stSnd>
        <p:snd r:embed="rId3" name="laser.wav"/>
      </p:stSnd>
    </p:sndAc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032360" cy="30258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95280" y="3500280"/>
            <a:ext cx="4032360" cy="30258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5003640" y="765000"/>
            <a:ext cx="345600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ASKETBALL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OOTBALL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076720" y="3429000"/>
            <a:ext cx="367200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UGBYBALL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ANDBALL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UBBER BALL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horz"/>
    <p:sndAc>
      <p:stSnd>
        <p:snd r:embed="rId3" name="laser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9:34:30Z</dcterms:created>
  <dc:creator>admin</dc:creator>
  <dc:description/>
  <dc:language>en-US</dc:language>
  <cp:lastModifiedBy> </cp:lastModifiedBy>
  <dcterms:modified xsi:type="dcterms:W3CDTF">2008-05-25T19:26:34Z</dcterms:modified>
  <cp:revision>14</cp:revision>
  <dc:subject/>
  <dc:title>Slide 1</dc:title>
</cp:coreProperties>
</file>