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1.png" ContentType="image/png"/>
  <Override PartName="/ppt/media/image19.wmf" ContentType="image/x-wmf"/>
  <Override PartName="/ppt/media/image17.png" ContentType="image/png"/>
  <Override PartName="/ppt/media/image20.wmf" ContentType="image/x-wmf"/>
  <Override PartName="/ppt/media/image32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2.png" ContentType="image/png"/>
  <Override PartName="/ppt/media/image7.jpeg" ContentType="image/jpeg"/>
  <Override PartName="/ppt/media/image40.wmf" ContentType="image/x-wmf"/>
  <Override PartName="/ppt/media/image33.wmf" ContentType="image/x-wmf"/>
  <Override PartName="/ppt/media/image13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36.wmf" ContentType="image/x-wmf"/>
  <Override PartName="/ppt/media/image39.wmf" ContentType="image/x-wmf"/>
  <Override PartName="/ppt/media/image42.png" ContentType="image/png"/>
  <Override PartName="/ppt/media/image43.jpeg" ContentType="image/jpeg"/>
  <Override PartName="/ppt/media/image44.wmf" ContentType="image/x-wmf"/>
  <Override PartName="/ppt/media/image38.png" ContentType="image/png"/>
  <Override PartName="/ppt/media/image41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6.jpeg" ContentType="image/jpeg"/>
  <Override PartName="/ppt/media/image37.jpeg" ContentType="image/jpeg"/>
  <Override PartName="/ppt/media/image3.jpeg" ContentType="image/jpeg"/>
  <Override PartName="/ppt/media/image28.wmf" ContentType="image/x-wmf"/>
  <Override PartName="/ppt/media/image10.jpeg" ContentType="image/jpeg"/>
  <Override PartName="/ppt/media/image11.wmf" ContentType="image/x-wmf"/>
  <Override PartName="/ppt/media/image5.jpeg" ContentType="image/jpeg"/>
  <Override PartName="/ppt/media/image18.wmf" ContentType="image/x-wmf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E09-4AFF-4F10-9886-D5D0BEE1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970-5F5F-4844-86FF-EB02F6AA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E75-22DB-4186-ADEA-DE5B4ED6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691-1E55-4A56-81D8-5497A938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F155-BA52-4F27-8F8A-316D15CD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E8D7-B84B-4FED-8FA4-BC1F4122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0D80-4D2E-48E6-8F60-20AFF44B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D38F-CAA8-4182-9B18-26A47384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EDFB-4FE3-4036-87AA-ADE39953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85F8-A02C-4D71-BC05-22CB1A1A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B8EA-F5E8-485F-AC1A-73FC18E3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A8C0-8618-4A46-B5ED-85DAB46C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F6EA-F931-4098-AB35-CBD88935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BA2C-61D1-4471-9F1B-9F1F71EB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5DE2-0F63-4566-815D-B3D81ADA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9BD9-E657-41E6-971A-B1167CC3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B0FA-A1AC-481F-A1DC-34FDDD0E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0D1-1A33-4F1B-9ABF-543B5F79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E86-916A-4865-82AE-73777CAC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25A-7EF7-4295-A238-45B6334B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A9A-5A58-4EA2-999F-31F1C9BA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60A-B986-4591-97B8-85F7FF4B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4A8-23BE-43BB-A465-D7E1F5A1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B1B-4BDC-4D7F-88B5-71E181D2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A111-4B21-434F-AC37-1A67FAE1BF7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E29C-0EB5-4E99-B421-3C51487363E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SKI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D YOU 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 ALL CRAW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D THEN RO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56000" y="476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OVING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722" r="0" b="0"/>
          <a:stretch/>
        </p:blipFill>
        <p:spPr>
          <a:xfrm>
            <a:off x="4859280" y="1916280"/>
            <a:ext cx="2932200" cy="3630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56000" y="2133720"/>
            <a:ext cx="2087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583092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is for APPLE PI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ASTY AND HO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00"/>
                </a:solidFill>
                <a:latin typeface="Comic Sans MS"/>
              </a:rPr>
              <a:t>B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s for BU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N A GLASS PO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00"/>
                </a:solidFill>
                <a:latin typeface="Comic Sans MS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is for CERE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ITH MILK or T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nd that is MY TEA-TIME </a:t>
            </a:r>
            <a:r>
              <a:rPr b="1" lang="en-GB" sz="2400" spc="-1" strike="noStrike">
                <a:solidFill>
                  <a:srgbClr val="993300"/>
                </a:solidFill>
                <a:latin typeface="Comic Sans MS"/>
              </a:rPr>
              <a:t>A-B-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556000" y="476280"/>
            <a:ext cx="388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EA-TIME ABC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356000" y="1484280"/>
            <a:ext cx="1657440" cy="1447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156360" y="2565360"/>
            <a:ext cx="1695240" cy="1289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4500720" y="3645000"/>
            <a:ext cx="1560240" cy="1357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708360" y="3068640"/>
            <a:ext cx="23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5327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EET ARE FOR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HOP and SK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LIDE and SL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PLAY in the R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nd for JUMP again and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56000" y="476280"/>
            <a:ext cx="367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FEET ARE FOR..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rcRect l="795" t="792" r="0" b="0"/>
          <a:stretch/>
        </p:blipFill>
        <p:spPr>
          <a:xfrm>
            <a:off x="5003640" y="1989000"/>
            <a:ext cx="3148200" cy="31561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V="1">
            <a:off x="1692360" y="2276640"/>
            <a:ext cx="2016000" cy="288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08360" y="2276640"/>
            <a:ext cx="1943280" cy="1728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755640" y="1486080"/>
            <a:ext cx="468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 AM THE B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AT I SAY GO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LAP YOUR HA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ND TOUCH YOUR TO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WAVE YOUR H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WHEREVER IT GO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56000" y="476280"/>
            <a:ext cx="37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 AM THE BOS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580000" y="1628640"/>
            <a:ext cx="2160720" cy="2027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84720" y="3141720"/>
            <a:ext cx="1582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867280" y="3716280"/>
            <a:ext cx="1430280" cy="2131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213080" y="4581360"/>
            <a:ext cx="1654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416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OOM BOOM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YOUR HEART IS A PU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T BEATS ALL NIGHT AND D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ILE YOU SLEEP AND WHILE YOU PL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UN AROUND THE PLAY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UT YOUR HAND ON YOUR V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EEL YOUR HEART BEAT FAS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S IT “BOOMS” IN YOUR CH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56000" y="476280"/>
            <a:ext cx="381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YOUR HEART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10" name="Picture 6" descr="C:\Documents and Settings\scap0s12\Local Settings\Temporary Internet Files\Content.IE5\TNE0XPGR\MCj03666180000[1].wmf"/>
          <p:cNvPicPr/>
          <p:nvPr/>
        </p:nvPicPr>
        <p:blipFill>
          <a:blip r:embed="rId1"/>
          <a:stretch/>
        </p:blipFill>
        <p:spPr>
          <a:xfrm>
            <a:off x="6443640" y="1125360"/>
            <a:ext cx="1736640" cy="180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280" y="1197000"/>
            <a:ext cx="4319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ITH MY HAND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 CAN TURN ON A T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 CAN GIVE YOU A CL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 CAN SCRATCH MY N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 CAN TICKLE MY TO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 CAN POINT TO THE SK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ND I CAN SAY GOODBY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56000" y="260280"/>
            <a:ext cx="388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ITH MY HAND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651640" y="4137120"/>
            <a:ext cx="2592360" cy="2050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643280" y="5013360"/>
            <a:ext cx="1150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5435640" y="1557360"/>
            <a:ext cx="1716120" cy="2735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213080" y="1916280"/>
            <a:ext cx="1438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4000" y="1557000"/>
            <a:ext cx="4103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OAR LIKE A L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IAOW LIKE A C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ND BUZZ LIKE A B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N SHOUT WITH YOUR OWN VOI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HELLO, THIS IS ME!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68360" y="476280"/>
            <a:ext cx="37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OUNDS LIKE M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2841480" cy="3059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211640" y="1844640"/>
            <a:ext cx="1224000" cy="50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619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YOU MUST SH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F I’M FAR A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O I CAN HE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WHAT YOU WANT TO S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BUT IF YOU AND I ARE NE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YOU CAN WHISP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AND I WILL HE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411280" y="260280"/>
            <a:ext cx="388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OUD AND SOF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580000" y="4292640"/>
            <a:ext cx="2333520" cy="15606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6156360" y="1557360"/>
            <a:ext cx="183024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568656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AUTUM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REES ARE BR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KICK THE LEA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 OVER THE T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556000" y="476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AUTUM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3021120" cy="2539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940360" y="4365720"/>
            <a:ext cx="2448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45338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W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VERYTHING IS CO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’M FREEZ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ITH THIS SNOW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771640" y="476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INT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0" t="722" r="0" b="0"/>
          <a:stretch/>
        </p:blipFill>
        <p:spPr>
          <a:xfrm>
            <a:off x="5219640" y="2060640"/>
            <a:ext cx="2932200" cy="363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19928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SP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LOWERS IN THE TR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T’S LIGHTER EACH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SO WE CAN STAY OUT AND PL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556000" y="476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PRING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867280" y="1773360"/>
            <a:ext cx="2519640" cy="2514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651640" y="5084640"/>
            <a:ext cx="1168200" cy="1440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524720" y="4653000"/>
            <a:ext cx="123516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CAN D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D I CAN JUM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CAN WAL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D I CAN RU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56000" y="476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 CA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761000" y="2446200"/>
            <a:ext cx="3771720" cy="2854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08360" y="2133720"/>
            <a:ext cx="934920" cy="287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440" y="2204640"/>
            <a:ext cx="46069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UMM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Y THE S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ANDY FOOTPR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ADE BY 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56000" y="476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UMM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435640" y="3357720"/>
            <a:ext cx="2254320" cy="30826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184140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4000" y="1557000"/>
            <a:ext cx="5327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NE STEP, TWO STE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BABY SMI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REE STEPS, FOUR STE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BABY C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IVE STEPS, SIX STE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BABY FALLS FLAT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T’S NOT EASY TO DO THAT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050920" y="476280"/>
            <a:ext cx="41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FIRST STEP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2757600" cy="3097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932360" y="1773360"/>
            <a:ext cx="1295280" cy="2087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6262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N YOU BOUNCE, BOUNCE,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OU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LIKE A BIG BOUNCY BAL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N YOU FLY, FLY, FL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LIKE A BIG RED BALLOON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YES, I WANT TO SEE THE MOON!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56000" y="476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ffff00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LAYING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50000">
                    <a:srgbClr val="ffff00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621" t="722" r="0" b="0"/>
          <a:stretch/>
        </p:blipFill>
        <p:spPr>
          <a:xfrm>
            <a:off x="5884920" y="2151000"/>
            <a:ext cx="2825640" cy="2428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580000" y="1844640"/>
            <a:ext cx="50472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722" r="0" b="0"/>
          <a:stretch/>
        </p:blipFill>
        <p:spPr>
          <a:xfrm>
            <a:off x="6588000" y="1646280"/>
            <a:ext cx="1905120" cy="2359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626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NE, TWO : HOW ARE YO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REE, FOUR: LIE ON THE FLO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IVE, SIX: I CAN DO TRI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SEVEN, EIGHT: JUMP OVER THE GA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INE, TEN: LET’S DO IT AGAIN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56000" y="476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COUNT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6012000" y="1197000"/>
            <a:ext cx="936360" cy="180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773000"/>
            <a:ext cx="55418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OW MANY EARS HAS A RABBIT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OW MANY TAILS HAS A DOG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OW MANY FEET HAS A BABY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OW MANY EYES HAS A FROG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56000" y="47628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MANY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2681280" cy="3384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003640" y="2133720"/>
            <a:ext cx="1729080" cy="1871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 WENT TO THE ZOO ONE D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LL THE ANIMALS CAME OUT TO P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THERE WERE EIGHT MONKEYS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VEN DONKEYS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IX WHALES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ND FIVE SNAK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04000" y="2708280"/>
            <a:ext cx="1608120" cy="1641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2556000" y="476280"/>
            <a:ext cx="374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O THE ZO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580000" y="3716280"/>
            <a:ext cx="1608120" cy="1641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4356000" y="4149720"/>
            <a:ext cx="1608120" cy="1641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5076720" y="2060640"/>
            <a:ext cx="1608120" cy="1641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7020000" y="4508640"/>
            <a:ext cx="1608120" cy="1641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V="1">
            <a:off x="4067280" y="5734080"/>
            <a:ext cx="720720" cy="287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5472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NE, TWO, THREE, F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PEN THE DO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VE, SIX, SEVEN, E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AT FROM THE PL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INE, T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BED AGAI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556000" y="476280"/>
            <a:ext cx="38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N BED AGAI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rcRect l="9898" t="3608" r="7199" b="0"/>
          <a:stretch/>
        </p:blipFill>
        <p:spPr>
          <a:xfrm>
            <a:off x="6156360" y="2192400"/>
            <a:ext cx="2448000" cy="3525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0" y="2349360"/>
            <a:ext cx="1728720" cy="358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611820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or an A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Comic Sans MS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or a B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or the C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ICH CLIMBS UP THE TR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56000" y="476280"/>
            <a:ext cx="367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ANIMAL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716360" y="2349360"/>
          <a:ext cx="259236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349360"/>
                    <a:ext cx="2592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08360" y="4149720"/>
            <a:ext cx="1150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1:49:50Z</dcterms:created>
  <dc:creator> </dc:creator>
  <dc:description/>
  <dc:language>en-US</dc:language>
  <cp:lastModifiedBy> </cp:lastModifiedBy>
  <dcterms:modified xsi:type="dcterms:W3CDTF">2008-04-28T14:52:41Z</dcterms:modified>
  <cp:revision>54</cp:revision>
  <dc:subject/>
  <dc:title>Diapositiva 1</dc:title>
</cp:coreProperties>
</file>