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E1D96-9259-4104-9F26-47B8F955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21FCA-C312-46DD-8C88-B0365219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3223-0AF2-4D48-9DF7-E4504DFD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9C86F-D71A-492D-A72E-EF0A74FD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324C-2D4A-4D54-9A09-B6A0AD73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E0C6-3393-46F8-BC67-7414571E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AE7D-363B-414B-A35F-EF0B98F2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0740-925D-4FC7-90F8-A7CB61F4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E84D-6EB1-4F7A-B9DF-F3D0DA02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889B-9176-4493-9092-8215A392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E0B7-09D5-4074-A508-100002A9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C9D1D-3BE7-40E5-8CD4-7D0E14CE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C110-31B6-43BF-9FA7-64811532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B3CF-A675-4612-A55D-A4DF81B9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7685-3B80-4A4A-A3A9-31E77C4B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9B7E-D4F2-4C40-8758-F1D3F5C0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2E7F-0947-484A-9BCA-C881D135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AC2E-C9AD-4583-89F5-66C47CB7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9F5F-3B5F-46FB-9B11-7550AB19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CFBA-B6B5-4F6C-96C1-830D9B4E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2A67-53A0-4237-91A8-0D0AE0D5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45AB4-8F0B-4119-94D7-A14C4BA5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DD85-1A9C-49B0-BD36-D4F72D0A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33110-3E53-470A-9B9B-8D330875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8C02-BBCE-4290-B0F2-ECC79C5BE84D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4968-E5A3-4CB1-95F0-05D77D4CE74B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2120" y="1295280"/>
            <a:ext cx="51051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PACE</a:t>
            </a:r>
            <a:endParaRPr b="0" lang="en-US" sz="1800" spc="1" strike="noStrike">
              <a:ln w="381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766800">
            <a:off x="5257440" y="3047760"/>
            <a:ext cx="3389400" cy="3468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62120" y="3048120"/>
            <a:ext cx="3657600" cy="2286000"/>
          </a:xfrm>
          <a:prstGeom prst="cloudCallout">
            <a:avLst>
              <a:gd name="adj1" fmla="val 67402"/>
              <a:gd name="adj2" fmla="val 26597"/>
            </a:avLst>
          </a:prstGeom>
          <a:solidFill>
            <a:srgbClr val="cccc00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7200" y="3429000"/>
            <a:ext cx="33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00"/>
                </a:solidFill>
                <a:latin typeface="Balloonist"/>
              </a:rPr>
              <a:t>Where are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00"/>
                </a:solidFill>
                <a:latin typeface="Balloonist"/>
              </a:rPr>
              <a:t> </a:t>
            </a:r>
            <a:r>
              <a:rPr b="1" lang="en-GB" sz="4800" spc="-1" strike="noStrike">
                <a:solidFill>
                  <a:srgbClr val="003300"/>
                </a:solidFill>
                <a:latin typeface="Balloonist"/>
              </a:rPr>
              <a:t>you?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28634" t="6638" r="39734" b="61465"/>
          <a:stretch/>
        </p:blipFill>
        <p:spPr>
          <a:xfrm>
            <a:off x="533520" y="5029200"/>
            <a:ext cx="1676160" cy="1187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600200" y="2743200"/>
            <a:ext cx="27432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FAR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31581" t="10018" r="13409" b="11063"/>
          <a:stretch/>
        </p:blipFill>
        <p:spPr>
          <a:xfrm>
            <a:off x="5486400" y="1066680"/>
            <a:ext cx="29433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8654" t="8003" r="8654" b="8003"/>
          <a:stretch/>
        </p:blipFill>
        <p:spPr>
          <a:xfrm>
            <a:off x="1131840" y="973080"/>
            <a:ext cx="6878520" cy="4910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371600" y="1295280"/>
            <a:ext cx="27432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UP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8654" t="6772" r="8654" b="6156"/>
          <a:stretch/>
        </p:blipFill>
        <p:spPr>
          <a:xfrm>
            <a:off x="1143000" y="914400"/>
            <a:ext cx="6878520" cy="5089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371600" y="1295280"/>
            <a:ext cx="350532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DOWN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8651" t="11985" r="8651" b="12292"/>
          <a:stretch/>
        </p:blipFill>
        <p:spPr>
          <a:xfrm>
            <a:off x="1143000" y="1143000"/>
            <a:ext cx="6881760" cy="4435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43000" y="48006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9320" y="4343400"/>
            <a:ext cx="1238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IN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8767" t="6638" r="8638" b="6760"/>
          <a:stretch/>
        </p:blipFill>
        <p:spPr>
          <a:xfrm>
            <a:off x="1135080" y="888840"/>
            <a:ext cx="6885000" cy="5073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90720" y="19810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19920" y="1981080"/>
            <a:ext cx="1828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OUT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 rot="12774600">
            <a:off x="3968280" y="2533320"/>
            <a:ext cx="1774800" cy="130968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6475367"/>
                <a:lnTo>
                  <a:pt x="7476" y="524"/>
                </a:lnTo>
                <a:arcTo wR="10800" hR="10800" stAng="-6475367" swAng="647536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8651" t="8358" r="8651" b="8604"/>
          <a:stretch/>
        </p:blipFill>
        <p:spPr>
          <a:xfrm>
            <a:off x="1131840" y="988920"/>
            <a:ext cx="6881760" cy="4864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47920" y="47242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19320" y="4343400"/>
            <a:ext cx="1523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ON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8651" t="8358" r="8651" b="7990"/>
          <a:stretch/>
        </p:blipFill>
        <p:spPr>
          <a:xfrm>
            <a:off x="1131840" y="988920"/>
            <a:ext cx="6881760" cy="4900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219320" y="4800600"/>
            <a:ext cx="24382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UNDER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8651" t="8543" r="8651" b="7990"/>
          <a:stretch/>
        </p:blipFill>
        <p:spPr>
          <a:xfrm>
            <a:off x="1131840" y="1000080"/>
            <a:ext cx="6881760" cy="4889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52280" y="5791320"/>
            <a:ext cx="403884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IN FRONT OF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8651" t="8174" r="8651" b="7990"/>
          <a:stretch/>
        </p:blipFill>
        <p:spPr>
          <a:xfrm>
            <a:off x="1131840" y="979560"/>
            <a:ext cx="6881760" cy="4910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38080" y="495288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5410080"/>
            <a:ext cx="32004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BEHIND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8638" t="8113" r="8638" b="7990"/>
          <a:stretch/>
        </p:blipFill>
        <p:spPr>
          <a:xfrm>
            <a:off x="1125360" y="974880"/>
            <a:ext cx="6894720" cy="4914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143000" y="5715000"/>
            <a:ext cx="693432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BY/ NEXT TO/ NEAR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5623" t="8113" r="5623" b="10448"/>
          <a:stretch/>
        </p:blipFill>
        <p:spPr>
          <a:xfrm>
            <a:off x="879480" y="974880"/>
            <a:ext cx="7385040" cy="4771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2743200" y="5181480"/>
            <a:ext cx="40384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BETWEEN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07:32:42Z</dcterms:created>
  <dc:creator>User</dc:creator>
  <dc:description/>
  <dc:language>en-US</dc:language>
  <cp:lastModifiedBy>admin</cp:lastModifiedBy>
  <dcterms:modified xsi:type="dcterms:W3CDTF">2008-01-17T16:45:22Z</dcterms:modified>
  <cp:revision>17</cp:revision>
  <dc:subject/>
  <dc:title>Slide 1</dc:title>
</cp:coreProperties>
</file>