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11.wmf" ContentType="image/x-wmf"/>
  <Override PartName="/ppt/media/image9.wmf" ContentType="image/x-wmf"/>
  <Override PartName="/ppt/media/image16.png" ContentType="image/png"/>
  <Override PartName="/ppt/media/image14.jpeg" ContentType="image/jpeg"/>
  <Override PartName="/ppt/media/image1.png" ContentType="image/png"/>
  <Override PartName="/ppt/media/image2.jpeg" ContentType="image/jpeg"/>
  <Override PartName="/ppt/media/image13.jpeg" ContentType="image/jpeg"/>
  <Override PartName="/ppt/media/coin.wav" ContentType="audio/x-wav"/>
  <Override PartName="/ppt/media/image3.wmf" ContentType="image/x-wmf"/>
  <Override PartName="/ppt/media/image15.jpeg" ContentType="image/jpe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4A9A-33AD-4A88-AF32-E10F267A3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64008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438280" y="3568680"/>
            <a:ext cx="64008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3C59-D0DD-4E69-9E41-6DE6EEC8A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718240" y="29714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438280" y="356868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718240" y="356868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F47E-7477-457A-91D3-620E6DD0A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02240" y="297144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766560" y="297144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438280" y="356868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602240" y="356868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766560" y="356868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6AE6-CDB8-4481-9B55-8D10C0FE5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8CC6D-CD34-45CB-9E85-EE38674AF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29714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CD6B4-7CE2-4CEF-B0FD-ACCBCF897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D96DE-8DB1-4CFB-8D99-65FCA8CA2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297144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A366D-FAA3-47B8-B4BC-85ABD1CD5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5B7F0-2522-4A56-BA35-583D210ED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04760" y="228240"/>
            <a:ext cx="6933960" cy="120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3E11E-EBAF-4BEB-9823-A951A4BFB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297144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56868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29A36-8B08-4E02-B76E-7B1D8BDA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438280" y="29714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5DEF-CAFE-4F8C-9AB3-20016ECA0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29714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56868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80A23-2DF1-4995-8FFB-917586CF5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29714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568680"/>
            <a:ext cx="64008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D24D1-9ACC-46F1-8737-68490F01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64008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568680"/>
            <a:ext cx="64008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E808B-8DB0-499F-9595-31B0791DA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29714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56868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56868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11536-5D98-4851-A36C-5153E1F45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297144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297144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56868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56868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56868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AA181-901D-45B4-8E40-C37636727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607D-7611-4A08-B4E8-3AEA46DCB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718240" y="297144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3A1C-4432-4CA8-B3C5-3E39E64B3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D024-75C2-4A8C-92DC-FFCCBBD25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04760" y="228240"/>
            <a:ext cx="6933960" cy="120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A260-7920-40C0-84D3-3695898C6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718240" y="297144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438280" y="356868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CAF4-0A58-4DA8-A435-33BE82545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718240" y="29714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718240" y="356868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34E7-C8CB-48D1-95A1-C3C4CA2A9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718240" y="29714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438280" y="3568680"/>
            <a:ext cx="64008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AD42-DC02-43DD-AFC9-BA48797E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3657600"/>
            <a:ext cx="1952640" cy="2438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1001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dy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ndy"/>
            </a:endParaRPr>
          </a:p>
          <a:p>
            <a:pPr lvl="1" marL="639000" indent="-245520">
              <a:spcBef>
                <a:spcPts val="1001"/>
              </a:spcBef>
              <a:buClr>
                <a:srgbClr val="000000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dy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Andy"/>
            </a:endParaRPr>
          </a:p>
          <a:p>
            <a:pPr lvl="2" marL="982800" indent="-196560">
              <a:spcBef>
                <a:spcPts val="1001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dy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Andy"/>
            </a:endParaRPr>
          </a:p>
          <a:p>
            <a:pPr lvl="3" marL="1375920" indent="-196560">
              <a:spcBef>
                <a:spcPts val="1001"/>
              </a:spcBef>
              <a:buClr>
                <a:srgbClr val="000000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dy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Andy"/>
            </a:endParaRPr>
          </a:p>
          <a:p>
            <a:pPr lvl="4" marL="1769040" indent="-196560">
              <a:spcBef>
                <a:spcPts val="1001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dy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Andy"/>
            </a:endParaRPr>
          </a:p>
          <a:p>
            <a:pPr lvl="5" marL="1769040" indent="-196560">
              <a:spcBef>
                <a:spcPts val="1001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dy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Andy"/>
            </a:endParaRPr>
          </a:p>
          <a:p>
            <a:pPr lvl="6" marL="1769040" indent="-196560">
              <a:spcBef>
                <a:spcPts val="1001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dy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ffffff"/>
                </a:solidFill>
                <a:latin typeface="Andy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ndy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ffffff"/>
                </a:solidFill>
                <a:latin typeface="Andy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ndy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ffffff"/>
                </a:solidFill>
                <a:latin typeface="Andy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E4F1C-DF54-44A3-93AC-58FA5490C0DA}" type="slidenum">
              <a:rPr b="1" lang="en-US" sz="2000" spc="-1" strike="noStrike">
                <a:solidFill>
                  <a:srgbClr val="ffffff"/>
                </a:solidFill>
                <a:latin typeface="Andy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Andy"/>
              </a:rPr>
              <a:t>Click to edit the title text format</a:t>
            </a:r>
            <a:endParaRPr b="0" lang="en-US" sz="4800" spc="-1" strike="noStrike">
              <a:solidFill>
                <a:srgbClr val="cc0000"/>
              </a:solidFill>
              <a:latin typeface="Andy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0000"/>
                </a:solidFill>
                <a:latin typeface="Andy"/>
              </a:rPr>
              <a:t>Click to edit the title text format</a:t>
            </a:r>
            <a:endParaRPr b="0" lang="en-US" sz="8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ndy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ndy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ndy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ndy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ndy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66D15-3F52-4CDA-BE59-8A7E3CCF2228}" type="slidenum">
              <a:rPr b="0" lang="en-US" sz="2400" spc="-1" strike="noStrike">
                <a:solidFill>
                  <a:srgbClr val="ffffff"/>
                </a:solidFill>
                <a:latin typeface="Andy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1981080"/>
            <a:ext cx="3170160" cy="39625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dy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ndy"/>
            </a:endParaRPr>
          </a:p>
          <a:p>
            <a:pPr lvl="1" marL="45252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y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ndy"/>
            </a:endParaRPr>
          </a:p>
          <a:p>
            <a:pPr lvl="2" marL="905040" algn="ctr"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3" marL="1357560" algn="ctr">
              <a:spcBef>
                <a:spcPts val="700"/>
              </a:spcBef>
              <a:buClr>
                <a:srgbClr val="000000"/>
              </a:buClr>
              <a:buFont typeface="Andy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y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ndy"/>
            </a:endParaRPr>
          </a:p>
          <a:p>
            <a:pPr lvl="4" marL="1810440" algn="ctr">
              <a:spcBef>
                <a:spcPts val="700"/>
              </a:spcBef>
              <a:buClr>
                <a:srgbClr val="000000"/>
              </a:buClr>
              <a:buFont typeface="Andy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y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ndy"/>
            </a:endParaRPr>
          </a:p>
          <a:p>
            <a:pPr lvl="5" marL="1810440">
              <a:spcBef>
                <a:spcPts val="700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y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ndy"/>
            </a:endParaRPr>
          </a:p>
          <a:p>
            <a:pPr lvl="6" marL="1810440">
              <a:spcBef>
                <a:spcPts val="700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y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ndy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audio" Target="../media/coin.wav"/><Relationship Id="rId7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audio" Target="../media/coin.wav"/><Relationship Id="rId6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audio" Target="../media/coin.wav"/><Relationship Id="rId7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jpe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audio" Target="../media/coin.wav"/><Relationship Id="rId6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audio" Target="../media/coin.wav"/><Relationship Id="rId5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2.jpeg"/><Relationship Id="rId7" Type="http://schemas.openxmlformats.org/officeDocument/2006/relationships/audio" Target="../media/coin.wav"/><Relationship Id="rId8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 rot="20947800">
            <a:off x="1116000" y="549000"/>
            <a:ext cx="381636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Quoit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067280" y="2133720"/>
            <a:ext cx="4392360" cy="3295440"/>
          </a:xfrm>
          <a:prstGeom prst="rect">
            <a:avLst/>
          </a:prstGeom>
          <a:ln w="44280">
            <a:solidFill>
              <a:srgbClr val="800080"/>
            </a:solidFill>
            <a:miter/>
          </a:ln>
        </p:spPr>
      </p:pic>
    </p:spTree>
  </p:cSld>
  <p:transition spd="slow">
    <p:comb dir="vert"/>
    <p:sndAc>
      <p:stSnd>
        <p:snd r:embed="rId2" name="coin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1366920" y="1268280"/>
            <a:ext cx="687708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4920">
                  <a:solidFill>
                    <a:srgbClr val="80008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WHAT COULD</a:t>
            </a:r>
            <a:endParaRPr b="0" lang="en-US" sz="1800" spc="1" strike="noStrike">
              <a:ln w="34920">
                <a:solidFill>
                  <a:srgbClr val="80008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4920">
                  <a:solidFill>
                    <a:srgbClr val="80008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 QUOIT </a:t>
            </a:r>
            <a:endParaRPr b="0" lang="en-US" sz="1800" spc="1" strike="noStrike">
              <a:ln w="34920">
                <a:solidFill>
                  <a:srgbClr val="80008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4920">
                  <a:solidFill>
                    <a:srgbClr val="80008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   </a:t>
            </a:r>
            <a:r>
              <a:rPr b="0" lang="en-US" sz="1800" spc="1" strike="noStrike">
                <a:ln w="34920">
                  <a:solidFill>
                    <a:srgbClr val="80008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E?</a:t>
            </a:r>
            <a:endParaRPr b="0" lang="en-US" sz="1800" spc="1" strike="noStrike">
              <a:ln w="34920">
                <a:solidFill>
                  <a:srgbClr val="80008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comb dir="vert"/>
    <p:sndAc>
      <p:stSnd>
        <p:snd r:embed="rId1" name="coin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771640" y="3500280"/>
            <a:ext cx="2305080" cy="20275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227640" y="1052640"/>
            <a:ext cx="2621160" cy="1692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6084720" y="3357720"/>
            <a:ext cx="2303640" cy="19825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826920" y="404640"/>
            <a:ext cx="4681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339966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T COULD BE A...</a:t>
            </a:r>
            <a:endParaRPr b="0" lang="en-US" sz="1800" spc="1" strike="noStrike">
              <a:ln w="25560">
                <a:solidFill>
                  <a:srgbClr val="339966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059280" y="1557360"/>
            <a:ext cx="1873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80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HAT</a:t>
            </a:r>
            <a:endParaRPr b="0" lang="en-US" sz="1800" spc="1" strike="noStrike">
              <a:ln w="28440">
                <a:solidFill>
                  <a:srgbClr val="000080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</p:spTree>
  </p:cSld>
  <p:transition spd="slow">
    <p:comb dir="vert"/>
    <p:sndAc>
      <p:stSnd>
        <p:snd r:embed="rId6" name="coin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826920" y="404640"/>
            <a:ext cx="4681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339966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T COULD BE A...</a:t>
            </a:r>
            <a:endParaRPr b="0" lang="en-US" sz="1800" spc="1" strike="noStrike">
              <a:ln w="25560">
                <a:solidFill>
                  <a:srgbClr val="339966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059280" y="1557360"/>
            <a:ext cx="1873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80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WHEEL</a:t>
            </a:r>
            <a:endParaRPr b="0" lang="en-US" sz="1800" spc="1" strike="noStrike">
              <a:ln w="28440">
                <a:solidFill>
                  <a:srgbClr val="000080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300720" y="1557360"/>
            <a:ext cx="2448000" cy="2448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919680" y="2992320"/>
            <a:ext cx="2597040" cy="259740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  <p:sndAc>
      <p:stSnd>
        <p:snd r:embed="rId5" name="coin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300720" y="2852640"/>
            <a:ext cx="2411640" cy="1349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419640" y="3068640"/>
            <a:ext cx="2800080" cy="26049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 rot="1081200">
            <a:off x="6659280" y="1052280"/>
            <a:ext cx="2087640" cy="7776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826920" y="404640"/>
            <a:ext cx="4681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339966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T COULD BE A...</a:t>
            </a:r>
            <a:endParaRPr b="0" lang="en-US" sz="1800" spc="1" strike="noStrike">
              <a:ln w="25560">
                <a:solidFill>
                  <a:srgbClr val="339966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" name=""/>
          <p:cNvSpPr txBox="1"/>
          <p:nvPr/>
        </p:nvSpPr>
        <p:spPr>
          <a:xfrm rot="21330000">
            <a:off x="2471400" y="1727280"/>
            <a:ext cx="3971880" cy="11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80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BRACELET</a:t>
            </a:r>
            <a:endParaRPr b="0" lang="en-US" sz="1800" spc="1" strike="noStrike">
              <a:ln w="28440">
                <a:solidFill>
                  <a:srgbClr val="000080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</p:spTree>
  </p:cSld>
  <p:transition spd="slow">
    <p:comb dir="vert"/>
    <p:sndAc>
      <p:stSnd>
        <p:snd r:embed="rId6" name="coin.wav"/>
      </p:stSnd>
    </p:sndAc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380360" y="189000"/>
            <a:ext cx="1338120" cy="1306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708360" y="1484280"/>
            <a:ext cx="5392800" cy="53928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826920" y="404640"/>
            <a:ext cx="4681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339966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T COULD BE THE...</a:t>
            </a:r>
            <a:endParaRPr b="0" lang="en-US" sz="1800" spc="1" strike="noStrike">
              <a:ln w="25560">
                <a:solidFill>
                  <a:srgbClr val="339966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" name=""/>
          <p:cNvSpPr txBox="1"/>
          <p:nvPr/>
        </p:nvSpPr>
        <p:spPr>
          <a:xfrm rot="21468600">
            <a:off x="2771640" y="1557000"/>
            <a:ext cx="18734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80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MOON</a:t>
            </a:r>
            <a:endParaRPr b="0" lang="en-US" sz="1800" spc="1" strike="noStrike">
              <a:ln w="28440">
                <a:solidFill>
                  <a:srgbClr val="000080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</p:spTree>
  </p:cSld>
  <p:transition spd="slow">
    <p:comb dir="vert"/>
    <p:sndAc>
      <p:stSnd>
        <p:snd r:embed="rId5" name="coin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743200" y="698400"/>
            <a:ext cx="6400800" cy="50356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826920" y="404640"/>
            <a:ext cx="4681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339966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T COULD BE A...</a:t>
            </a:r>
            <a:endParaRPr b="0" lang="en-US" sz="1800" spc="1" strike="noStrike">
              <a:ln w="25560">
                <a:solidFill>
                  <a:srgbClr val="339966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843280" y="1557360"/>
            <a:ext cx="1873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80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CAKE</a:t>
            </a:r>
            <a:endParaRPr b="0" lang="en-US" sz="1800" spc="1" strike="noStrike">
              <a:ln w="28440">
                <a:solidFill>
                  <a:srgbClr val="000080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</p:spTree>
  </p:cSld>
  <p:transition spd="slow">
    <p:comb dir="vert"/>
    <p:sndAc>
      <p:stSnd>
        <p:snd r:embed="rId4" name="coin.wav"/>
      </p:stSnd>
    </p:sndAc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411280" y="981000"/>
            <a:ext cx="6121440" cy="36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4920">
                  <a:solidFill>
                    <a:srgbClr val="80008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  </a:t>
            </a:r>
            <a:r>
              <a:rPr b="0" lang="en-US" sz="1800" spc="1" strike="noStrike">
                <a:ln w="34920">
                  <a:solidFill>
                    <a:srgbClr val="80008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WHAT IS </a:t>
            </a:r>
            <a:endParaRPr b="0" lang="en-US" sz="1800" spc="1" strike="noStrike">
              <a:ln w="34920">
                <a:solidFill>
                  <a:srgbClr val="80008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4920">
                  <a:solidFill>
                    <a:srgbClr val="80008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 </a:t>
            </a:r>
            <a:r>
              <a:rPr b="0" lang="en-US" sz="1800" spc="1" strike="noStrike">
                <a:ln w="34920">
                  <a:solidFill>
                    <a:srgbClr val="80008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 QUOIT </a:t>
            </a:r>
            <a:endParaRPr b="0" lang="en-US" sz="1800" spc="1" strike="noStrike">
              <a:ln w="34920">
                <a:solidFill>
                  <a:srgbClr val="80008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4920">
                  <a:solidFill>
                    <a:srgbClr val="80008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USED FOR?</a:t>
            </a:r>
            <a:endParaRPr b="0" lang="en-US" sz="1800" spc="1" strike="noStrike">
              <a:ln w="34920">
                <a:solidFill>
                  <a:srgbClr val="80008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826920" y="549360"/>
            <a:ext cx="1563840" cy="172872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  <p:sndAc>
      <p:stSnd>
        <p:snd r:embed="rId2" name="coin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26920" y="404640"/>
            <a:ext cx="698508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339966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 quoit is used for      </a:t>
            </a:r>
            <a:endParaRPr b="0" lang="en-US" sz="1800" spc="1" strike="noStrike">
              <a:ln w="25560">
                <a:solidFill>
                  <a:srgbClr val="339966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339966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 </a:t>
            </a:r>
            <a:r>
              <a:rPr b="0" lang="en-US" sz="1800" spc="1" strike="noStrike">
                <a:ln w="25560">
                  <a:solidFill>
                    <a:srgbClr val="339966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laying games</a:t>
            </a:r>
            <a:endParaRPr b="0" lang="en-US" sz="1800" spc="1" strike="noStrike">
              <a:ln w="25560">
                <a:solidFill>
                  <a:srgbClr val="339966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3276720" y="2492280"/>
            <a:ext cx="4032000" cy="302436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  <p:sndAc>
      <p:stSnd>
        <p:snd r:embed="rId7" name="coin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9T11:52:04Z</dcterms:created>
  <dc:creator>Manager</dc:creator>
  <dc:description/>
  <dc:language>en-US</dc:language>
  <cp:lastModifiedBy> </cp:lastModifiedBy>
  <dcterms:modified xsi:type="dcterms:W3CDTF">2008-05-18T14:24:42Z</dcterms:modified>
  <cp:revision>10</cp:revision>
  <dc:subject/>
  <dc:title>Slide 1</dc:title>
</cp:coreProperties>
</file>