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219-3E36-45FB-AAD0-9430E012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EF1-3826-4A9A-832A-4959F1E0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B05-C8E6-4049-A29B-517396B9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284-E466-4C76-B1CB-E75096CB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526-4276-4AA8-AFB6-B03708D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484-EAF9-4430-9522-C7D38B9D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6C1-DF16-44DE-A2B6-A677806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645-A4C8-4ADA-BFD2-EDC1F4A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940-3FDB-4579-AB9C-3E7FAD29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A94-13FC-494E-862B-0F549FE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1F4-99D1-4006-A0E1-1A11862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768-B23F-4605-B92B-403C506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DDD-37F7-4ED1-A37C-872AA9DA3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409716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92280"/>
            <a:ext cx="3816360" cy="3313080"/>
          </a:xfrm>
          <a:prstGeom prst="cloudCallout">
            <a:avLst>
              <a:gd name="adj1" fmla="val 92388"/>
              <a:gd name="adj2" fmla="val 25800"/>
            </a:avLst>
          </a:prstGeom>
          <a:solidFill>
            <a:srgbClr val="bbe0e3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12536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660066"/>
                </a:solidFill>
                <a:latin typeface="Comic Sans MS"/>
              </a:rPr>
              <a:t>IN MY OPINION THE PLAY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HENOME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7879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VERY 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392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REG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265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176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 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6083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07:51Z</dcterms:created>
  <dc:creator>NICKYB</dc:creator>
  <dc:description/>
  <dc:language>en-US</dc:language>
  <cp:lastModifiedBy> </cp:lastModifiedBy>
  <dcterms:modified xsi:type="dcterms:W3CDTF">2008-01-16T23:31:25Z</dcterms:modified>
  <cp:revision>6</cp:revision>
  <dc:subject/>
  <dc:title>¿Qué tal?</dc:title>
</cp:coreProperties>
</file>