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2FC-8591-41E3-8669-2F4DF1C4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E62-2201-41F2-A1E9-3D7D6041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940-B9AB-4428-A95E-F599DA7A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C09-AFFF-4B25-B1A9-3A20AB32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C6F2-0081-4DA9-AC13-E2255179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26CE-F271-434D-8F81-62700703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2107-7B12-4F8D-BFD4-44A2824F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5152-0866-4AAE-A687-616E470C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AE57-3062-43B0-9286-B093DE93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F855-861F-436C-848C-01D19D76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052E-7FEB-4073-BEED-56A8DC06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BF3-3F36-4F08-B8BA-B68897FC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DBC4-217B-49EE-B781-3C38D1DE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9324-5352-4DF5-A83F-5CD165C2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D63E-B086-4B84-BB05-54C1FC5C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DA9F-C1FC-4D8A-8A41-335C13EE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CBF6-8380-45D6-98E9-DF1D8720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2D9-CA97-4CBB-A384-0A1289BB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32D-348D-4D37-B26A-CB3D2C22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22A-7F42-4263-A4DA-AA56B529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ED5-6A8A-4179-82CB-9B75A19F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9F4-07FD-4903-AFF5-33C3088A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508-3C8E-4067-B75C-36BEA6AF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FE9-4FF3-486D-AA29-29C058DE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26AB-C623-4B3C-B69A-4F219C602F5C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354418"/>
            </a:solidFill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B6E0-D980-41F6-B881-189EE422C020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9280" y="404640"/>
            <a:ext cx="2838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SITIONS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40360" y="2708280"/>
            <a:ext cx="3671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AND UP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2598840" cy="3249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9280" y="404640"/>
            <a:ext cx="2838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SITIONS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4720" y="2781360"/>
            <a:ext cx="3600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IT DOWN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3249720" cy="3249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859280" y="404640"/>
            <a:ext cx="2838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SITIONS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2436840" cy="324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995640" y="2708280"/>
            <a:ext cx="417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NEEL DOWN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9280" y="404640"/>
            <a:ext cx="2838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SITIONS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40360" y="2708280"/>
            <a:ext cx="4248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OUCH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OWN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31496" b="0"/>
          <a:stretch/>
        </p:blipFill>
        <p:spPr>
          <a:xfrm>
            <a:off x="611280" y="1916280"/>
            <a:ext cx="3262320" cy="3571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859280" y="404640"/>
            <a:ext cx="2838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SITIONS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788000" y="2708280"/>
            <a:ext cx="36716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IE DOWN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406260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116000" y="404640"/>
            <a:ext cx="655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ich is the position?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427640" y="1700280"/>
            <a:ext cx="216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IE DOWN</a:t>
            </a:r>
            <a:endParaRPr b="0" i="1" lang="en-US" sz="20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724360" y="342900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AND UP</a:t>
            </a:r>
            <a:endParaRPr b="0" i="1" lang="en-US" sz="20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4360" y="5516640"/>
            <a:ext cx="22320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IT DOWN</a:t>
            </a:r>
            <a:endParaRPr b="0" i="1" lang="en-US" sz="20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9640" y="1628640"/>
            <a:ext cx="1728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NEEL </a:t>
            </a:r>
            <a:endParaRPr b="0" i="1" lang="en-US" sz="20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OWN</a:t>
            </a:r>
            <a:endParaRPr b="0" i="1" lang="en-US" sz="20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95640" y="4941720"/>
            <a:ext cx="22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OUCH </a:t>
            </a:r>
            <a:endParaRPr b="0" i="1" lang="en-US" sz="20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OWN</a:t>
            </a:r>
            <a:endParaRPr b="0" i="1" lang="en-US" sz="20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089080" cy="1155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211640" y="2637000"/>
            <a:ext cx="1289160" cy="1758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1701720" cy="1882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rcRect l="11339" t="0" r="11339" b="0"/>
          <a:stretch/>
        </p:blipFill>
        <p:spPr>
          <a:xfrm>
            <a:off x="2340000" y="1557360"/>
            <a:ext cx="1841400" cy="2143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6372360" y="4292640"/>
            <a:ext cx="1439640" cy="1873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2:04:44Z</dcterms:created>
  <dc:creator>admin</dc:creator>
  <dc:description/>
  <dc:language>en-US</dc:language>
  <cp:lastModifiedBy> </cp:lastModifiedBy>
  <dcterms:modified xsi:type="dcterms:W3CDTF">2008-02-24T13:25:09Z</dcterms:modified>
  <cp:revision>13</cp:revision>
  <dc:subject/>
  <dc:title>Slide 1</dc:title>
</cp:coreProperties>
</file>