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camera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14.gif" ContentType="image/gif"/>
  <Override PartName="/ppt/media/image47.wmf" ContentType="image/x-wmf"/>
  <Override PartName="/ppt/media/image1.gif" ContentType="image/gif"/>
  <Override PartName="/ppt/media/image11.jpeg" ContentType="image/jpeg"/>
  <Override PartName="/ppt/media/image25.wmf" ContentType="image/x-wmf"/>
  <Override PartName="/ppt/media/image30.gif" ContentType="image/gif"/>
  <Override PartName="/ppt/media/image36.png" ContentType="image/png"/>
  <Override PartName="/ppt/media/image6.jpeg" ContentType="image/jpeg"/>
  <Override PartName="/ppt/media/image28.wmf" ContentType="image/x-wmf"/>
  <Override PartName="/ppt/media/image33.jpeg" ContentType="image/jpeg"/>
  <Override PartName="/ppt/media/image34.gif" ContentType="image/gif"/>
  <Override PartName="/ppt/media/image37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7.jpeg" ContentType="image/jpeg"/>
  <Override PartName="/ppt/media/image2.jpeg" ContentType="image/jpeg"/>
  <Override PartName="/ppt/media/image20.png" ContentType="image/png"/>
  <Override PartName="/ppt/media/image3.gif" ContentType="image/gi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31.png" ContentType="image/png"/>
  <Override PartName="/ppt/media/image29.wmf" ContentType="image/x-wmf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15.gif" ContentType="image/gif"/>
  <Override PartName="/ppt/media/image5.jpeg" ContentType="image/jpeg"/>
  <Override PartName="/ppt/media/image38.wmf" ContentType="image/x-wmf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9F5-2817-4DD2-8FBD-B3F1CC25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539-29D2-4182-BB7A-1A0AB5E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89A3A-EDB5-4666-BEE8-C7C0096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3CACC-10A9-4EAA-BBAA-2E586974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71CFC-B3B7-4DB9-841F-C233620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03131-1DA0-4543-8646-0911DF1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47E2E-2B61-4B75-A49F-358088E1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44E7-AED5-4C35-824F-01E36B0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1A2D5-CAFE-4312-B203-9F38EA4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19D4F-260D-46DE-985A-22786FA2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D74D1-D395-484A-8FA7-0C5E926C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DB733-C922-4A60-8C25-98D2AE2A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9DD-63F2-469D-9F6C-C39A1CF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0BCFE-EB03-4E32-86B5-BD4DB87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C656B-CC6C-44E3-AC0A-805145F6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1D367-9DF0-4867-A955-FB5CC6C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AF32A-2B54-4E8B-BB26-BABC532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85BC4-7915-4A6B-8486-8C675CE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F7C86-D427-4F69-990D-3BA2DEA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74836-4ED4-4F2E-839B-B459C054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B2BA-F83B-43D9-B3B3-B485FDFD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4AEB8-955E-4FF1-B35F-0573FEAF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C2CF4-940C-46D3-AEFF-C7279E81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A17-5203-4BDC-940B-BDD1C5D4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902B2-3AD8-4A82-9AE4-E57CD82F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FBFBA-29E2-4560-816C-A13EBED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C95EB-92F6-4EAA-A46B-65C318D9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545F8-CDA6-4F5C-97DE-9DB6236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A539-5715-4E74-9D0A-6E0BBC78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FBDBD-9797-4187-A1F0-5B00CD8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B6C22-134A-40AE-80D5-423847CB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5CEDB-0DBA-43D2-83E2-5E1B76F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4DB1E-78D2-47FE-9EEC-63C9B81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3F33D-F131-40B4-A6EE-3B4B45E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66A5-DE12-4E14-850E-A14CC5CF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515CC-F73E-47C0-BA7D-F310A8A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A769-2459-44CE-AEA9-DED5FBF5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5EB91-4B64-46CA-B849-FF678EB5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F8EE1-2896-4286-938E-4639DDB3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1224D-6FCD-4A58-B355-3ACB0FB8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C34F6-1E10-4948-9905-B5E07F26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7B9F5-6F4E-49F9-905C-38DEFD24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DB48B-9256-4924-BE41-F1D5BB0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CF47A-BE2C-48AA-95E7-79D21D3E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C556F-04B2-4815-9DC6-F6377DF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90B5-87CE-4CE4-A332-46703F5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E6204-A942-4011-AED0-D695D6F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41409-032B-4B84-8321-D46B42B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CAFF6-E240-4BE0-89BC-31EF3A72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648DA-980B-4F74-B660-C1FD02B1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27218-9F87-4713-8754-8D8413ED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D75F3-B34D-4BE6-8332-F955836B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164CC-758F-4E94-BA22-6D4B978E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6F984-BF32-4F72-B653-DF19786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518C6-4E2A-463E-902B-1C2ED43C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06D0F-4E26-4444-A70E-4E712929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9FB8-64E4-4177-AD64-8C157089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8BDEF-5B77-4989-BBDC-31B0EFC8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D7192-A00C-4C80-9751-E8B0B1F8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91275-0806-4701-A3E2-84B6E88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056B3-B882-4D75-9441-046C24A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1D9EE-ACF4-4835-9A11-8D340431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41913-11BE-48AC-9B75-A9A0264E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66921-A370-42A9-BE06-B56BC38B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000CE-7DB3-48E9-BEEA-3903A600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BAC46-ED78-470D-9967-078355F1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403E2-927D-4BD5-A8C8-F577E013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0002-6B67-408B-9039-2466BF40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72AE0-72D8-4E61-8C47-43081A8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3BA36-4C9D-4A8D-A960-F8B8F61F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5115-A611-4CD1-8E43-18A61CE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B10AC-1E98-4EAA-B70C-5DB4F83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69137-DB54-40DE-8827-921F589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FCE12-E07E-4ADA-8503-8646D47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3858C-F351-4A5C-8BA5-5CB13E7B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01022-8C99-4A12-A6DF-8776DA5F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89BA2-41CE-4EFE-80FD-7B877645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5DE30-D1B9-4B51-84E9-CEE7831C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7BF-DE97-4D47-86A3-64863F9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5E674-ED39-49DA-A437-14DCC27C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8E1D6-FB85-409F-A15A-040EAC2E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51BF5-446E-42D4-924B-7DECF48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593D4-52B3-4C2D-B29D-34819B2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6629E-9178-493E-A7E9-3DB80E9C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F7A94-9543-4FFB-9F8B-18B115F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51E9A-743E-4CE0-89CD-5B5A8D8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5988D-13F6-4199-976E-A952DE9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5329C-4189-4405-8C5B-F0A09763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C1B2E-2552-43C3-BDA8-E3D2A4F0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FAB1-C163-4E59-8CEC-C5BFAE1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01E90-965B-4B70-9411-C6E301EB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EECAD-2E01-4DA0-BBE9-A2E43701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5232E-64C9-4AE3-A8AA-0A9DAA49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0F96A-6A7A-4A0C-A9D3-71D4F05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D2C40-4DFB-420D-B673-41BF0EC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2B317-2A54-4BAB-BCCB-FB5C6CB8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86095-6420-415C-B081-ECE88390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3D073-50A2-41D3-BBCB-DC6648D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29A6F-BFA5-4ADB-8582-710E9A9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D27D9-C7CD-44FF-8A21-06FB5D5B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C47D-D444-4478-8948-9657141E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97600-FCC3-49A2-B5E5-5947F572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FB5AB-9A14-4035-933E-A2E24962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344D4-E28A-4BAC-B496-8D617C42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024B3-7CEC-45A9-B47C-AE335523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09883-74C7-408F-9A75-95F1EE07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078B9-CD71-491F-A71F-C1479373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FE5D7-5087-4F9C-85EB-5138F041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8A83B-80C0-498A-8771-BC94EC5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C6858-2BCD-4F96-8229-EC1F3341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EDE26-EA8E-4BFB-B0E0-818818B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12A-9A0D-452A-AE6D-42AD5C5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203C-DCEC-4699-8C2A-EECEEF6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40072-4B40-411B-BC6E-58FEE8D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2AAAC-8027-43F1-9B63-827A4BA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E8897-0930-460C-8ECB-C933E57A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E6228-7C53-4E2D-8297-0AE8DD5D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197BC-7353-48AC-A421-59699937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4DEB8-09F0-4583-8D9E-1202533D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7258F-990D-497D-84F0-5DED39F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0B485-014C-48EA-A41F-2B8F3516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1FBA9-35F2-49A2-B943-1CFB46AE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5B193-0F3A-4921-ADCD-0C21716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2399-6496-4AED-A0AD-B4AD47D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AEBD9-5582-4EFC-99F6-86051FB3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4E955-AF18-441F-ABC5-41AD826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8BC66-EBF9-4BD9-8655-1A495E4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DD935-2DD4-4DEB-ACBD-93BBEC7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BE785-B798-4AE4-BA7A-2AA91499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680F7-4545-4AE7-AD8A-51E735D5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A82F7-1AE9-4D2F-AB5F-1BA576D9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41F55-74F1-4CBE-AE98-83C04080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CB9DE-1480-4473-B329-547BD59E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9A71B-C89B-40F7-B52F-D2C170D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12A-4C29-4D59-9939-BED1C1E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F18BA-64BC-4703-9E57-C6A01F14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C9142-A075-46EA-873E-1FD86DB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17FCD-3212-48E5-B91E-C4EFE3D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DC8A3-8FDF-4B5A-A6A1-5491DB0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0E6A6-CDB2-4A0B-95F1-CDDDA3B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3C8EB-1EA9-40D0-953C-765098F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0DFE0-1152-4506-A636-D72C2C3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958C8-633E-4530-A314-6011910F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24736-AFCE-4EF1-AEBB-D01FE992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26985-E4AE-46EC-B379-365698C5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3583-C564-4B23-B619-D7496A41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62894-3F5F-4521-8180-F834384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B0BF6-54D1-40E7-9BD9-7091E79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4D479-515D-4A93-8601-771266E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27581-AEFD-471A-A080-4EBA82D3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C5E09-74BC-49BB-9E25-19A125CA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801D8-9498-4CE2-A526-593E73FC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289FB-1C8D-4057-9241-1C86561C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E569D-9F23-4440-8284-56332A05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FED055-D840-4450-B353-1B1B616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CC342-564F-4008-913B-B3F0D292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B8E-6C68-4923-8B7B-68F99C5E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0DEA0-3555-4394-8E6E-12A1EBA2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7CD45-2B81-4022-AB41-9CDFF39F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76F10-4D71-4175-B5CD-3EFF3D7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63128-EFFA-4294-9929-3DAE389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A3F6D-14D0-4472-925B-0BB05390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6B42A-4C3D-4053-8C3A-D5AEB1F4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27E3C-E87A-4DB1-BE69-4B63FDF2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0DD9B5-35D5-4844-93BD-AC57A625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05F12A-193D-4628-87B8-9E00E04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BECFE-EB3A-4F10-ABC2-4C4EEFB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C356-FF6C-4192-89A8-BFC11329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7D874-04A4-4E33-9DC3-A50CBDB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07EB7-CF1D-458D-981A-71BCA9DA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70F5C-6D36-4D47-A105-6F59C7FC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15F6D-88AA-45BF-8069-7E4B87EC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B4A83-F38D-494C-A44F-126C38C5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966B67-66A9-4FE9-BDA0-6B35A792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467B1-A3D0-4CDF-A6BD-BEE801F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4D854-DEA9-419E-9449-6DAC3B91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73AA49-8BE3-4DE3-9F84-57291C1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BBF4D-6BFC-48F9-93BA-C4891F8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66F2-CC6D-403D-975A-D5537A4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CBB100-F872-403C-A4FF-2BD9023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21373-F438-4ED7-831B-53E7666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44995-6199-471C-A0C0-E04FAE8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F75A65-911A-47E2-9C2C-DCCAD548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36E5CE-FD31-4984-9AEE-71E1A17D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613548-E0DB-4765-ADD9-B36E2B54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1C25C6-18F1-47CE-872A-228FC2D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DFD087-6C57-4524-AC8F-9145385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C5D2A-1F63-4919-8E06-6379FC8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093A62-187B-4C71-BEB0-88C2FACE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E185-CDFB-48C5-93F6-AF43092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54A611-BD60-4C54-AC76-9C2B5C46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F55ED8-6BA2-4A10-A4C4-F795988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8384F-95B2-48C4-8D94-C591533B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D0B24-1065-4275-9171-49BFEE8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E637C3-B157-4DD8-B331-173C705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ECE89F-6D27-4940-A08E-22E53B4C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EC2304-995F-4186-92F4-939A8872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4FDB2E-85EB-418F-99F5-B68CCB31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CCCA8D-B41B-4037-8F99-B7A92372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BBAD9A-6BFF-4A71-9EA4-F9C2C2A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B111-43B2-4BB7-8692-3E959BA1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A1A269-8646-4AF4-AA5E-9803EC7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14C0AD-DE24-4A5B-9488-87D980AA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EEA5F-7A4C-4490-B21E-92708741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009DA5-B819-4736-B03D-0C74144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72D752-A32B-494E-8722-35FC9FB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FE480A-DD95-437D-BFBE-9528B909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CDBA32-C2F0-4706-8EBC-28D321AA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A2E28-72C3-4490-B24F-955CC531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BDE9F-F8BC-475C-8498-2E856C34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7D9939-05E9-4F8F-97F5-8BB5626B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1ECE-D8D1-449D-A12B-639F7CC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2D781C-D002-49F1-874A-0263DF9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281FE8-24B8-4DCB-96E9-9A829B37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91FE9E-4A9F-4469-8E18-48847121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2757EB-50D6-44E2-8088-BC851257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1D889-00D8-483B-8E95-C521FDA2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52831B-AE78-400F-B7B7-561E41E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ED26C5-E944-4C5E-AD34-2067E7C7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25F75A-0D79-4F5D-BCF2-583A4BE6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6DF9B-46E2-4BAB-AE55-CC7F8DE0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210D72-08E1-4ECA-81DA-85B53F01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0AC-FB0D-40E1-AC64-F7242278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7CFD-97F0-463B-8CD0-921584F0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25B313-D278-49B8-AADA-80CB5390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511BB7-5220-4F6B-A34D-A73FC0DA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ED586F-57A6-4A9C-8E85-B4331D4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6261A1-7EC9-4B16-9EF7-500C264B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FAEA6E-0DF2-4758-BEC9-C8E4B4C7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CEA41F-6A3F-4A42-B8BE-D589DF5F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9A36CB-BC76-4FC9-8839-515B303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1DBA0C-DD85-4A9B-A7D5-A0414AA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AA7E58-FB76-41A6-9F04-4ABF012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2388D3-21CC-418A-9160-391996D3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A850-D8EC-448A-A6FB-B5F0874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EC2103-4BB1-4368-A319-10263DC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47C730-4374-4B58-9697-D85AD4F2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1BED8-65C9-43F7-89B1-CB31F444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BD620-D5E3-4A1B-BC1F-737D6946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C20960-BA33-4024-B8D6-B87A1F3E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A4BE97-B80D-4748-B9C6-7EEE0AA6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7D0789-1220-404E-94DE-4507868E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CF40D0-6CF0-492E-8E12-4B2A75D9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88D4F9-25DD-498C-8BEB-49E9711E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1358F3-1D43-49C4-BBA9-471D0C5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38EB-1B8F-4287-83B1-E8AEDDA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788EB5-4F9F-44B3-B7E0-9F13D66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46C452-E70B-47C9-9A8D-F6D4343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439167-EB3E-422B-9C14-41E6BF4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9A5164-7041-4C44-9C41-0F0B9801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5E21B0-03D4-4387-9A07-0788AB63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5EEC12-2499-4852-97F7-90EBA731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7ADE41-4E98-4395-8412-93AC1DED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F64C25-DF4B-4AC3-A9C0-D76EEB32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AD6DE2-057D-4847-BB63-4278A951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F93096-B2C0-4FC3-A7F8-6A48D562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AD69-A6EF-4C75-8D8B-6C9D8370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EDC391-6CD9-463B-85D8-10D91BEA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6E9BE6-BF85-462A-9460-300BD66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74F2D8-70C0-4E58-8E6F-C73B62D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F9E02C-7792-4960-ADB2-8E37214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B4B628-21DA-4C5B-9238-F61F8E2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799246-F823-48E6-BC91-776DFB5A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FAEDC8-1BD9-4B32-8CA8-B56D101A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B79D9A-7C6B-408B-8F45-7F5EAC4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BA0F1C-D60D-48DB-A7A4-36A8356E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4F4A73-733C-458F-A9A6-B63BE42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1BFC-D20D-412C-A404-F0B6A809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0FD645-AF82-4428-A098-9AC51293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432F41-E5DE-4E32-8C45-9EE0C09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5AE097-A964-46D4-BED9-9CDA735A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3A9E43-B2E5-4A09-BB83-F01EAF5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5F95D0-9787-44EF-97A3-D6CA682E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F9C0F5-62CF-4FBE-8C22-EC91BCF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9BA181-FC8A-4427-A7B1-12AB7721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BD027C-BD87-4AC2-802B-962F1EEA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BDDA7D-E944-465B-A8D2-53E00019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2607F4-DAC3-4383-AB2A-68C7317C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D9AF-3767-4211-96C7-70112F20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CC4932-A6D9-4F93-A085-1A0ADCD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B95DB1-A4C8-486F-93C9-C84CC37B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B63E57-93DE-4148-86C4-F72A3FC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40CD2E-FE62-48E4-BE6A-4012F5E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B055EE-0D9A-4EC3-983C-6503469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8F3BF8-2D62-4BA7-BDC4-782F728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9809D6-4E89-4EA5-BD7F-1D69E4B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188BDF-E04F-4396-812A-F9ACF2C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3ED6FE-1D99-427D-973A-63093B87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A6B789-F1F7-4456-A750-A5A016DF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F569-8755-43A6-A381-AE3A1100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547498-FC42-4381-8A24-2E989790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A5A53C-5AA3-4D1A-AF85-5B1A2754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07A884-09F5-4C9A-ACAB-E2BE6EFC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8DEDB0-8764-4858-92CC-6837F62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894AD4-AA8F-4C0F-84AD-0648E5A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C00D92-0AFA-41A7-AD08-2F174AD3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8B9B4E-785E-4C32-857F-651FD43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4F006B-5FD0-4A99-8A73-85A35817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0A1F9A-B53A-4843-A6E4-0223E1C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7FB404-31C8-484C-99BB-6B3F71F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66C5-AC44-4C28-ABAF-B9BDFAC7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6DDE9D-1108-41B5-9FA0-12D035A7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C2DA11-A7FD-40E0-8EFE-D37109A3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CB66F7-8A61-48D6-B020-3C9E9B60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E2ABE0-E587-4A5B-B12A-6A5C81B8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DA9380-845B-466C-9C25-E7906553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A91EB2-C1A3-4522-A89E-7B2A6E85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F50178-70BC-4A3F-990E-6A97573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0B8918-69A3-47F1-836F-F316E86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917609-AB2A-4AC2-AA8D-B339EC2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419E23-7A07-4210-8921-B113C6EB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ACE9-BDF7-4A75-AA7F-08E84FAE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19308C-E2B3-4194-A9BC-BD9D9E2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F2D7EE-F567-45E6-98CF-38F1A7E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268E8E-7E7C-44EC-8A9B-297EE31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BB3D4E-56B1-4C27-AFC9-C1214DA2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25A9CA-865A-465A-857D-C34EAD8D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A603-36CE-4621-B56F-9B130F3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BAB-82D4-4A71-BDF4-4EA215ED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5EB5-D704-4FBC-A021-532BDF1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A3676-47CA-4359-99CC-E959C726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A302-CA9C-4F44-AC12-C6E74D59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753C-F966-4680-8F55-B55D2E3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B33A-8062-463F-9A06-B6DC002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C80F-3E9A-4BAB-B0E7-F07A829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0F6C-DBC6-4CC6-B2DD-6F3C59FC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5A74-6692-40F9-90CE-FF514ED3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3791-68C3-44CA-9171-D7A5C5F8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EC13-0ADB-4146-904B-0DFB9042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6D8-EC3F-4BFB-8378-93DE22A5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EC20-04E4-4C96-AF82-BF0839FC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C02A-B3B4-4101-8904-1DCB88A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62A6B-622B-44DA-8F80-1CE3E1F8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4ABE9-4863-4F53-9F2B-AEAB4DC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A3123-785A-4829-84EA-3FBF088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34EA-D511-4953-90F5-462BF89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E196-FA7F-4999-B9C7-C7845B74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C6D0E-3541-4AB0-9564-4B0426C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F9F4C-DD12-449C-9E4E-80AFFC2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E9D2-CBAF-429D-A2DD-EFA8A3F8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6CB-4B6E-45ED-9833-04F4066C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11D5-EB8E-4083-80A8-4ED14965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3879-BD71-4993-ABA8-F65A6CB2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EE6C-5686-499C-B2F8-6D18729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72D7-BA8E-49E8-8B0D-F73FA25D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02A00-B48E-4AAD-A87D-08B0F1C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8040-2FB9-463C-A5B9-3768199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86B14-5A31-432B-9987-C0D7DDE1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1A71-719A-4DD7-9049-2623179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722C-804A-4691-9B3F-44E721C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87B8B-5D88-482E-A23D-03FA2C9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07B-4DC5-40F9-8359-E064DA8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638F-25B9-424F-89A3-18B80FA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01222-7400-4DD9-B13E-99208E02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9693-FE4A-41CB-801C-4FAEA339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8FD1-8CA4-4CC1-BF93-EA6AE391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43E20-2969-4B53-9352-9B5E2367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C7CC-977C-4BB0-909E-7B252841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136D-D3F4-43B5-A15B-48FEABC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8133A-C1E8-43E6-9B2B-BBF6A16D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55BB-FA1C-43BA-A26E-33B0A82E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1185-3906-44A5-B9C0-C4E1465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312-B11F-4C82-99FB-49F3326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D22FE-8CF1-4C39-A321-759274F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14ACA-8ED8-43D7-8B9A-0ABA3A0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2519-20EB-4648-B90E-E259D337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0CB6F-0EA0-47DD-9A2B-813D4603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B666D-1639-49D0-95C6-ADDC5F39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9C497-96DA-4064-93DB-27D260DC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9C214-D113-4A69-B11C-75F1178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A4918-1A52-42EA-B0D7-D2917AC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2248E-B8C0-4C91-899D-B228967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950DC-F11D-412D-AAA1-0799B91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380-6F41-4BB0-8C6F-74708568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BFE9A-B4A7-4F44-9936-C92DAC35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4784-3BB8-43BD-B24D-C868D74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C845-0B34-4234-B68F-4CC1D88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8B03-802C-47D1-B05B-A0CFA88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74B8-2668-4F8C-869E-8A5FD497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9170-ECD9-44B3-A576-9C3C8FE8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7B1CF-88AA-4D65-A89B-571CF0B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7159C-D49B-4C70-AB9A-67959F6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C6321-854B-41C5-B16D-4FB989C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77A91-753C-4641-96C0-938CFB1F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16B1-58DD-49AF-AA47-4CFC7E8077F9}" type="datetime">
              <a:rPr b="0" lang="en-US" sz="1400" spc="-1" strike="noStrike">
                <a:solidFill>
                  <a:srgbClr val="3366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BB21-E04D-4021-BD88-0B94D7D57E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0" y="4807080"/>
            <a:ext cx="2054160" cy="15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5780-1FC8-42AC-8B72-013E302ADE0A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065F-6C22-4F00-9D17-16052EC9354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F868-FEEA-4B56-ACD8-DD7301BFF2D2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57B1-BBC3-4955-AAE6-7380CACF107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FE3-F211-41BB-B994-AF62A310D560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6B3-1442-4765-84DC-107E2CC1C42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C7AB-8211-4701-BA55-C869395648D3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B83B-EF2F-487E-A84B-91206200BF7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184-2564-450E-B1D5-F08FC329BDDE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7E7-9CAE-428B-9153-BFD83E8739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F8CE-CE3D-4CB8-A886-D184DD1F57B8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D998-8A8E-4FC4-93B2-D4824446CFA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7DAD-14AB-426D-B4F9-265AB85545B0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692B-1F7D-484A-8808-D14C8490A12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80C2-6891-45BF-A336-50F1231FBD72}" type="datetime">
              <a:rPr b="0" lang="en-US" sz="1600" spc="-1" strike="noStrike">
                <a:solidFill>
                  <a:srgbClr val="009999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F9F-4657-4E40-9C25-BBFD7A7A229C}" type="slidenum">
              <a:rPr b="0" lang="en-US" sz="1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886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9B5E-16C6-435C-AE78-9D569A5160D4}" type="datetime">
              <a:rPr b="1" lang="en-US" sz="1000" spc="-1" strike="noStrike">
                <a:solidFill>
                  <a:srgbClr val="009999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E9D-ABCE-475A-B0D8-33947D6ED740}" type="slidenum">
              <a:rPr b="1" lang="en-US" sz="10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763-E96D-47F8-9171-D8B553DE385E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978-776D-4E2E-8A98-EF2527A2539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DA1F-1458-4D16-9750-E06FE9CD9FF0}" type="datetime">
              <a:rPr b="0" lang="en-US" sz="1400" spc="-1" strike="noStrike">
                <a:solidFill>
                  <a:srgbClr val="3366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D06-A3C4-4431-A212-90990F004C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0" y="4807080"/>
            <a:ext cx="2054160" cy="15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5C9A-DE2B-4A99-A4BF-D3E52F7B7307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7729-165D-4A03-B19C-CDA0D32BE09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960C-D610-4C01-9CD2-0B4B8CC25069}" type="datetime">
              <a:rPr b="0" lang="en-US" sz="1600" spc="-1" strike="noStrike">
                <a:solidFill>
                  <a:srgbClr val="ff6600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78AB-0E5E-494A-A347-B59024A032E9}" type="slidenum">
              <a:rPr b="0" lang="en-US" sz="16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05640" cy="640080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9880" y="685440"/>
            <a:ext cx="50292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70FD-3FD0-4D6C-8F3F-E7A3F870CED0}" type="datetime">
              <a:rPr b="1" lang="en-US" sz="1000" spc="-1" strike="noStrike">
                <a:solidFill>
                  <a:srgbClr val="ff66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770-0FE6-47B8-B1E3-90CDCBADFC43}" type="slidenum">
              <a:rPr b="1" lang="en-US" sz="10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rcRect l="0" t="0" r="0" b="46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rcRect l="60836" t="60841" r="20835" b="18518"/>
          <a:stretch/>
        </p:blipFill>
        <p:spPr>
          <a:xfrm>
            <a:off x="7467480" y="5410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1117-C12C-4108-ACA2-3DB1B35286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929-942C-4986-A075-945D5CFAC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rcRect l="0" t="0" r="0" b="2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BE6-FDD0-4A08-8A67-DC1CC0BEA2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129-BBA7-4235-9B53-3A1F64E7F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4171-1576-4F7C-9532-8EA62BAC74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3F8A-8F9C-4F0C-A45D-98489BB8F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67A-1BBE-4B45-8AC7-290CEFDF35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816-B499-4EB6-B994-820EAF865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CD82-87AD-4DCE-A392-A1B372F55AC1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40B8-6CF9-427D-B7DC-0096F6B0FB5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E88A-65F7-42E2-BD06-7931CDA002EB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A1C4-6E7D-470D-AF26-DBF0466F881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F625-2772-4513-B77E-5AABBFCAFA86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4D69-57A2-417D-9C43-926FDFCA4C91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D26-4F77-48EB-96D4-8C84EB7ADA8E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EE33-9E7F-42A9-87C5-2537A9C4457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893C-1B03-431E-B46D-F4189771F2C4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4B1A-8CC4-4B10-B6DC-82AAFD9C5F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3FF-7A19-4115-847D-71615E3F6C3F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C8BD-3CC5-4BFF-9002-A6781CB0B5E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884-2FD0-4A51-94A7-9AD8DA76D1EB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524D-EEB2-402D-AB43-BE66BD37D04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EFF1-D1E9-44D2-A977-98AA6B150E33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5902-439A-4E9D-BAA7-59D9D6D9D98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62880" y="4876920"/>
            <a:ext cx="1581120" cy="1128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B9DC-D335-4A2E-825F-336E1DBB0F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E7A-95B4-4029-93E4-60C26BEF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FFEB-5E93-44CD-83CE-EC6747689D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84ED-5247-4318-BF3C-C1DE0181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477120" y="333864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867-AE8E-4D70-8615-6AA899264C73}" type="datetime">
              <a:rPr b="0" lang="en-US" sz="16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207E-C8BE-46EB-8559-289B343CEF3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376-0FE1-4A0C-A3F7-8731A59852B1}" type="datetime">
              <a:rPr b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ADF6-45A2-4FFC-9EC9-25C76FA06C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107C-8335-45FA-A720-1FB791781C66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47F9-083D-4CAA-92D0-FD5A213ADFB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0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0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23.wmf"/><Relationship Id="rId7" Type="http://schemas.openxmlformats.org/officeDocument/2006/relationships/image" Target="../media/image35.wmf"/><Relationship Id="rId8" Type="http://schemas.openxmlformats.org/officeDocument/2006/relationships/image" Target="../media/image35.wmf"/><Relationship Id="rId9" Type="http://schemas.openxmlformats.org/officeDocument/2006/relationships/image" Target="../media/image35.wmf"/><Relationship Id="rId10" Type="http://schemas.openxmlformats.org/officeDocument/2006/relationships/image" Target="../media/image35.wmf"/><Relationship Id="rId11" Type="http://schemas.openxmlformats.org/officeDocument/2006/relationships/image" Target="../media/image38.wmf"/><Relationship Id="rId12" Type="http://schemas.openxmlformats.org/officeDocument/2006/relationships/image" Target="../media/image38.wmf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23.wmf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image" Target="../media/image42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9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1042920" y="256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50000">
                      <a:srgbClr val="96ab94"/>
                    </a:gs>
                    <a:gs pos="100000">
                      <a:srgbClr val="8488c4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 the seaside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39F-C308-4B97-B63D-72C6E2A8D8E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8EEC1-0754-41B4-94C3-13DFB4010DDF}" type="datetime1">
              <a:rPr lang="en-US"/>
              <a:t>07/31/26</a:t>
            </a:fld>
          </a:p>
        </p:txBody>
      </p:sp>
    </p:spTree>
  </p:cSld>
  <p:transition spd="slow">
    <p:wheel spokes="8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2808360" cy="225576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2484360" y="4363920"/>
            <a:ext cx="2365560" cy="249408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468360" y="476280"/>
            <a:ext cx="468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800000"/>
                </a:solidFill>
                <a:latin typeface="Comic Sans MS"/>
              </a:rPr>
              <a:t>I will NEE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000" y="1700280"/>
            <a:ext cx="3600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33"/>
                </a:solidFill>
                <a:latin typeface="Comic Sans MS"/>
              </a:rPr>
              <a:t>SWI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33"/>
                </a:solidFill>
                <a:latin typeface="Comic Sans MS"/>
              </a:rPr>
              <a:t>COST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24000" y="4292640"/>
            <a:ext cx="2519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33"/>
                </a:solidFill>
                <a:latin typeface="Comic Sans MS"/>
              </a:rPr>
              <a:t>TOW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3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5651640" y="1268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ffff"/>
                </a:solidFill>
                <a:latin typeface="Comic Sans MS"/>
              </a:rPr>
              <a:t>SPA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280" y="1773360"/>
            <a:ext cx="3816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ffff"/>
                </a:solidFill>
                <a:latin typeface="Comic Sans MS"/>
              </a:rPr>
              <a:t>BUCK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95BC0-38A0-4B3B-812B-A1AC8448255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fld id="{3E6D8DE5-1585-4B30-ABAF-E2F295B7401C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4356000" y="40464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Comic Sans MS"/>
              </a:rPr>
              <a:t>SUN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643280" y="1773360"/>
            <a:ext cx="30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SAND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076720" y="3213000"/>
            <a:ext cx="180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99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24000" y="515772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" name="camera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274920" cy="439236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250920" y="2276640"/>
            <a:ext cx="5148000" cy="2736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800000"/>
                </a:solidFill>
                <a:latin typeface="Comic Sans MS"/>
              </a:rPr>
              <a:t>PUT all these things in</a:t>
            </a:r>
            <a:r>
              <a:rPr b="1" lang="es-ES_tradnl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s-ES_tradnl" sz="5400" spc="-1" strike="noStrike">
                <a:solidFill>
                  <a:srgbClr val="800000"/>
                </a:solidFill>
                <a:latin typeface="Comic Sans MS"/>
              </a:rPr>
              <a:t>the</a:t>
            </a:r>
            <a:r>
              <a:rPr b="1" lang="es-ES_tradnl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s-ES_tradnl" sz="5400" spc="-1" strike="noStrike">
                <a:solidFill>
                  <a:srgbClr val="ff3300"/>
                </a:solidFill>
                <a:latin typeface="Comic Sans MS"/>
              </a:rPr>
              <a:t>BEACH BA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8D01-9D89-433B-B584-A5C00F0F32C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01EC788-426A-4026-A832-656F1C14AD16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3" name="camera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395280" y="620640"/>
            <a:ext cx="6048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What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can</a:t>
            </a: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 you do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68360" y="692280"/>
            <a:ext cx="6048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What </a:t>
            </a:r>
            <a:r>
              <a:rPr b="0" lang="en-US" sz="12000" spc="-1" strike="noStrike">
                <a:solidFill>
                  <a:srgbClr val="333399"/>
                </a:solidFill>
                <a:latin typeface="Impact"/>
              </a:rPr>
              <a:t>can</a:t>
            </a: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 you do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2411280" y="184464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8000"/>
                </a:solidFill>
                <a:latin typeface="Comic Sans MS"/>
              </a:rPr>
              <a:t>I CAN SW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7061040" y="2133720"/>
            <a:ext cx="2082960" cy="2303280"/>
          </a:xfrm>
          <a:prstGeom prst="rect">
            <a:avLst/>
          </a:prstGeom>
          <a:ln w="0">
            <a:noFill/>
          </a:ln>
        </p:spPr>
      </p:pic>
      <p:sp>
        <p:nvSpPr>
          <p:cNvPr id="1364" name=""/>
          <p:cNvSpPr/>
          <p:nvPr/>
        </p:nvSpPr>
        <p:spPr>
          <a:xfrm>
            <a:off x="2340000" y="1125360"/>
            <a:ext cx="5040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200" spc="-1" strike="noStrike">
                <a:solidFill>
                  <a:srgbClr val="008000"/>
                </a:solidFill>
                <a:latin typeface="Comic Sans MS"/>
              </a:rPr>
              <a:t>I CAN BUILD a SANDCASTL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4365720"/>
            <a:ext cx="489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663300"/>
                </a:solidFill>
                <a:latin typeface="Comic Sans MS"/>
              </a:rPr>
              <a:t>I CAN EAT an ICEC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2519640" cy="167940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9874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649080" cy="56664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4"/>
          <a:stretch/>
        </p:blipFill>
        <p:spPr>
          <a:xfrm>
            <a:off x="4500720" y="5157720"/>
            <a:ext cx="792000" cy="41436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/>
          <p:cNvPicPr/>
          <p:nvPr/>
        </p:nvPicPr>
        <p:blipFill>
          <a:blip r:embed="rId5"/>
          <a:stretch/>
        </p:blipFill>
        <p:spPr>
          <a:xfrm>
            <a:off x="1547640" y="4941720"/>
            <a:ext cx="405000" cy="439920"/>
          </a:xfrm>
          <a:prstGeom prst="rect">
            <a:avLst/>
          </a:prstGeom>
          <a:ln w="0">
            <a:noFill/>
          </a:ln>
        </p:spPr>
      </p:pic>
      <p:pic>
        <p:nvPicPr>
          <p:cNvPr id="1372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792000" cy="415800"/>
          </a:xfrm>
          <a:prstGeom prst="rect">
            <a:avLst/>
          </a:prstGeom>
          <a:ln w="0">
            <a:noFill/>
          </a:ln>
        </p:spPr>
      </p:pic>
      <p:pic>
        <p:nvPicPr>
          <p:cNvPr id="1373" name="" descr=""/>
          <p:cNvPicPr/>
          <p:nvPr/>
        </p:nvPicPr>
        <p:blipFill>
          <a:blip r:embed="rId7"/>
          <a:stretch/>
        </p:blipFill>
        <p:spPr>
          <a:xfrm>
            <a:off x="8028000" y="4005360"/>
            <a:ext cx="720720" cy="630000"/>
          </a:xfrm>
          <a:prstGeom prst="rect">
            <a:avLst/>
          </a:prstGeom>
          <a:ln w="0">
            <a:noFill/>
          </a:ln>
        </p:spPr>
      </p:pic>
      <p:pic>
        <p:nvPicPr>
          <p:cNvPr id="1374" name="" descr=""/>
          <p:cNvPicPr/>
          <p:nvPr/>
        </p:nvPicPr>
        <p:blipFill>
          <a:blip r:embed="rId8"/>
          <a:stretch/>
        </p:blipFill>
        <p:spPr>
          <a:xfrm>
            <a:off x="684360" y="5805360"/>
            <a:ext cx="647640" cy="565200"/>
          </a:xfrm>
          <a:prstGeom prst="rect">
            <a:avLst/>
          </a:prstGeom>
          <a:ln w="0">
            <a:noFill/>
          </a:ln>
        </p:spPr>
      </p:pic>
      <p:pic>
        <p:nvPicPr>
          <p:cNvPr id="1375" name="" descr=""/>
          <p:cNvPicPr/>
          <p:nvPr/>
        </p:nvPicPr>
        <p:blipFill>
          <a:blip r:embed="rId9"/>
          <a:stretch/>
        </p:blipFill>
        <p:spPr>
          <a:xfrm>
            <a:off x="7596360" y="5877000"/>
            <a:ext cx="576000" cy="50328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/>
          <p:cNvPicPr/>
          <p:nvPr/>
        </p:nvPicPr>
        <p:blipFill>
          <a:blip r:embed="rId10"/>
          <a:stretch/>
        </p:blipFill>
        <p:spPr>
          <a:xfrm>
            <a:off x="5364000" y="5516640"/>
            <a:ext cx="503280" cy="43956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11"/>
          <a:stretch/>
        </p:blipFill>
        <p:spPr>
          <a:xfrm>
            <a:off x="2484360" y="6021360"/>
            <a:ext cx="405000" cy="43992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12"/>
          <a:stretch/>
        </p:blipFill>
        <p:spPr>
          <a:xfrm>
            <a:off x="6659640" y="5734080"/>
            <a:ext cx="404640" cy="43956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13"/>
          <a:stretch/>
        </p:blipFill>
        <p:spPr>
          <a:xfrm>
            <a:off x="7164360" y="44370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14"/>
          <a:stretch/>
        </p:blipFill>
        <p:spPr>
          <a:xfrm>
            <a:off x="7956720" y="4941720"/>
            <a:ext cx="438120" cy="43848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15"/>
          <a:stretch/>
        </p:blipFill>
        <p:spPr>
          <a:xfrm>
            <a:off x="4356000" y="6021360"/>
            <a:ext cx="792360" cy="41580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574560" y="98100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I CAN PICK UP she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6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" descr=""/>
          <p:cNvPicPr/>
          <p:nvPr/>
        </p:nvPicPr>
        <p:blipFill>
          <a:blip r:embed="rId2"/>
          <a:stretch/>
        </p:blipFill>
        <p:spPr>
          <a:xfrm>
            <a:off x="6230880" y="1341360"/>
            <a:ext cx="2913120" cy="24796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3529080" cy="267156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755640" y="1197000"/>
            <a:ext cx="5472000" cy="2303280"/>
          </a:xfrm>
          <a:prstGeom prst="rect">
            <a:avLst/>
          </a:prstGeom>
          <a:gradFill rotWithShape="0">
            <a:gsLst>
              <a:gs pos="0">
                <a:srgbClr val="ffc16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I CAN LIE DOWN on a towel and REL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427640" y="4292640"/>
            <a:ext cx="388944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800000"/>
                </a:solidFill>
                <a:latin typeface="Comic Sans MS"/>
              </a:rPr>
              <a:t>I CAN SUNBA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6825-7FA4-4669-B7E9-B2B68BC3BC2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C3E4DB7-E83A-470D-A94D-FA561DFFEC0F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4" name="camera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324000" y="5734080"/>
            <a:ext cx="7667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CAN GO FOR a W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284720" y="1052640"/>
            <a:ext cx="4429080" cy="208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I CAN TIPTOE down to the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2"/>
          <a:stretch/>
        </p:blipFill>
        <p:spPr>
          <a:xfrm>
            <a:off x="838836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1103400" cy="151308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89208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735120" cy="10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camera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38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38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3795" fill="hold"/>
                                        <p:tgtEl>
                                          <p:spTgt spid="1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4067280" y="3500280"/>
            <a:ext cx="424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99"/>
                </a:solidFill>
                <a:latin typeface="Arial"/>
              </a:rPr>
              <a:t>This is the </a:t>
            </a:r>
            <a:r>
              <a:rPr b="1" lang="en-GB" sz="8800" spc="-1" strike="noStrike">
                <a:solidFill>
                  <a:srgbClr val="ffff99"/>
                </a:solidFill>
                <a:latin typeface="Arial"/>
              </a:rPr>
              <a:t>BEA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971640" y="404640"/>
            <a:ext cx="424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1" i="1" lang="en-GB" sz="88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374920" cy="221436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168720" cy="2157480"/>
          </a:xfrm>
          <a:prstGeom prst="rect">
            <a:avLst/>
          </a:prstGeom>
          <a:ln w="0">
            <a:noFill/>
          </a:ln>
        </p:spPr>
      </p:pic>
      <p:sp>
        <p:nvSpPr>
          <p:cNvPr id="1395" name=""/>
          <p:cNvSpPr/>
          <p:nvPr/>
        </p:nvSpPr>
        <p:spPr>
          <a:xfrm>
            <a:off x="1258920" y="4076640"/>
            <a:ext cx="70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f it RAINS, PICK UP everything and leave the b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60360" y="4005360"/>
            <a:ext cx="705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If it RAINS, PICK UP everything and leave the b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" descr=""/>
          <p:cNvPicPr/>
          <p:nvPr/>
        </p:nvPicPr>
        <p:blipFill>
          <a:blip r:embed="rId4"/>
          <a:stretch/>
        </p:blipFill>
        <p:spPr>
          <a:xfrm>
            <a:off x="838836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3F6924-F2F9-4B1B-B2D2-1146BFF3F4B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fld id="{6E02CD0F-F2E7-4CFC-B6CB-39A17C6C379F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5" name="camera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0331" fill="hold"/>
                                        <p:tgtEl>
                                          <p:spTgt spid="1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1444680" cy="143352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1979640" y="2800440"/>
            <a:ext cx="4262400" cy="3381120"/>
          </a:xfrm>
          <a:prstGeom prst="rect">
            <a:avLst/>
          </a:prstGeom>
          <a:ln w="0">
            <a:noFill/>
          </a:ln>
        </p:spPr>
      </p:pic>
      <p:pic>
        <p:nvPicPr>
          <p:cNvPr id="1400" name="" descr=""/>
          <p:cNvPicPr/>
          <p:nvPr/>
        </p:nvPicPr>
        <p:blipFill>
          <a:blip r:embed="rId3"/>
          <a:stretch/>
        </p:blipFill>
        <p:spPr>
          <a:xfrm rot="19910400">
            <a:off x="5076360" y="1915920"/>
            <a:ext cx="2089080" cy="111420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 txBox="1"/>
          <p:nvPr/>
        </p:nvSpPr>
        <p:spPr>
          <a:xfrm>
            <a:off x="826920" y="333360"/>
            <a:ext cx="4175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e you a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each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4"/>
          <a:stretch/>
        </p:blipFill>
        <p:spPr>
          <a:xfrm>
            <a:off x="665964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9A3CA-443A-4065-933F-4F4484EE6DA8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fld id="{52265F07-5776-4C11-9F44-2D4F795DFF64}" type="datetime1">
              <a:rPr lang="en-US"/>
              <a:t>07/31/26</a:t>
            </a:fld>
          </a:p>
        </p:txBody>
      </p:sp>
    </p:spTree>
  </p:cSld>
  <p:transition spd="slow">
    <p:wheel spokes="8"/>
    <p:sndAc>
      <p:stSnd>
        <p:snd r:embed="rId5" name="camera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34155" fill="hold"/>
                                        <p:tgtEl>
                                          <p:spTgt spid="1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481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What can you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ee</a:t>
            </a: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 on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826920" y="836640"/>
            <a:ext cx="6481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What can you </a:t>
            </a:r>
            <a:r>
              <a:rPr b="0" lang="en-US" sz="12000" spc="-1" strike="noStrike">
                <a:solidFill>
                  <a:srgbClr val="333399"/>
                </a:solidFill>
                <a:latin typeface="Impact"/>
              </a:rPr>
              <a:t>see</a:t>
            </a: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 on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-252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663300"/>
                </a:solidFill>
                <a:latin typeface="Comic Sans MS"/>
              </a:rPr>
              <a:t>I can </a:t>
            </a:r>
            <a:r>
              <a:rPr b="1" lang="es-ES_tradnl" sz="7200" spc="-1" strike="noStrike">
                <a:solidFill>
                  <a:srgbClr val="663300"/>
                </a:solidFill>
                <a:latin typeface="Comic Sans MS"/>
              </a:rPr>
              <a:t>S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590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800000"/>
                </a:solidFill>
                <a:latin typeface="Comic Sans MS"/>
              </a:rPr>
              <a:t>FOOTPRI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1584360" cy="100188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 flipH="1" flipV="1">
            <a:off x="4716360" y="4076280"/>
            <a:ext cx="100800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19640" y="5084280"/>
            <a:ext cx="93636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476360" y="4005360"/>
            <a:ext cx="1440000" cy="287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26920" y="5300280"/>
            <a:ext cx="93672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7667640" y="2708280"/>
            <a:ext cx="936720" cy="93672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6587640" y="4868640"/>
            <a:ext cx="1079640" cy="64764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1773-7582-4EDC-BD91-ABAFFE977B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61E3D6D-A2EC-4022-A369-43DCBC5F3EF8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3" name="camera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4560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omic Sans MS"/>
              </a:rPr>
              <a:t>Starfis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1746360" cy="917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3"/>
          <a:stretch/>
        </p:blipFill>
        <p:spPr>
          <a:xfrm>
            <a:off x="3995640" y="4149720"/>
            <a:ext cx="1081080" cy="99396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4"/>
          <a:stretch/>
        </p:blipFill>
        <p:spPr>
          <a:xfrm>
            <a:off x="6084720" y="5013360"/>
            <a:ext cx="1622520" cy="101448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/>
          <p:cNvPicPr/>
          <p:nvPr/>
        </p:nvPicPr>
        <p:blipFill>
          <a:blip r:embed="rId5"/>
          <a:stretch/>
        </p:blipFill>
        <p:spPr>
          <a:xfrm>
            <a:off x="4211640" y="4941720"/>
            <a:ext cx="1841400" cy="16192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611280" y="2205000"/>
            <a:ext cx="4752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95280" y="3500280"/>
            <a:ext cx="2521080" cy="8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omic Sans MS"/>
              </a:rPr>
              <a:t>Sh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55640" y="5229360"/>
            <a:ext cx="2879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B80EB-C259-4231-9A42-0E9E004BB88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51C5421-4E49-4398-99B8-456963CF7C2D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6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2484000" y="3499920"/>
            <a:ext cx="5759640" cy="223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cccc00"/>
                </a:solidFill>
                <a:latin typeface="Comic Sans MS"/>
              </a:rPr>
              <a:t>I can se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808000"/>
                </a:solidFill>
                <a:latin typeface="Comic Sans MS"/>
              </a:rPr>
              <a:t>    </a:t>
            </a:r>
            <a:r>
              <a:rPr b="1" lang="es-ES_tradnl" sz="8800" spc="-1" strike="noStrike">
                <a:solidFill>
                  <a:srgbClr val="808000"/>
                </a:solidFill>
                <a:latin typeface="Comic Sans MS"/>
              </a:rPr>
              <a:t>SAND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C72E5-2279-4D73-9FDE-BE4BC5CE9BE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E753DE2-02B7-4AC0-AA5A-461B066F0554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5292720" y="1125360"/>
            <a:ext cx="2736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ff"/>
                </a:solidFill>
                <a:latin typeface="Comic Sans MS"/>
              </a:rPr>
              <a:t>A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ff"/>
                </a:solidFill>
                <a:latin typeface="Comic Sans MS"/>
              </a:rPr>
              <a:t>KIT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E8556-37BE-4522-962B-D52E99C10D1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fld id="{12CFC191-9347-491C-A8E8-D696FE3A2015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 rot="201600">
            <a:off x="755640" y="2852280"/>
            <a:ext cx="7777080" cy="30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Do you want to play with us?</a:t>
            </a:r>
            <a:endParaRPr b="1" lang="en-US" sz="5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43" name=""/>
          <p:cNvSpPr txBox="1"/>
          <p:nvPr/>
        </p:nvSpPr>
        <p:spPr>
          <a:xfrm rot="201600">
            <a:off x="684360" y="2852280"/>
            <a:ext cx="7777080" cy="30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6600"/>
                </a:solidFill>
                <a:latin typeface="Comic Sans MS"/>
              </a:rPr>
              <a:t>Do you want to play with us?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3C239-293B-4371-BB52-DD8CCA85A74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fld id="{44AF611F-AA83-4031-8FA6-1FB5A9C36BD4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468360" y="765000"/>
            <a:ext cx="6481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What will you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NEED</a:t>
            </a: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8200" y="836640"/>
            <a:ext cx="6481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What will you </a:t>
            </a:r>
            <a:r>
              <a:rPr b="0" lang="en-US" sz="12000" spc="-1" strike="noStrike">
                <a:solidFill>
                  <a:srgbClr val="333399"/>
                </a:solidFill>
                <a:latin typeface="Impact"/>
              </a:rPr>
              <a:t>NEED</a:t>
            </a: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56:31Z</dcterms:created>
  <dc:creator>Manager</dc:creator>
  <dc:description/>
  <dc:language>en-US</dc:language>
  <cp:lastModifiedBy> </cp:lastModifiedBy>
  <dcterms:modified xsi:type="dcterms:W3CDTF">2008-04-16T16:33:11Z</dcterms:modified>
  <cp:revision>46</cp:revision>
  <dc:subject/>
  <dc:title>Animated Summer X</dc:title>
</cp:coreProperties>
</file>