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8.png" ContentType="image/png"/>
  <Override PartName="/ppt/media/image16.wmf" ContentType="image/x-wmf"/>
  <Override PartName="/ppt/media/image7.gif" ContentType="image/gif"/>
  <Override PartName="/ppt/media/image9.wmf" ContentType="image/x-wmf"/>
  <Override PartName="/ppt/media/image6.gif" ContentType="image/gif"/>
  <Override PartName="/ppt/media/image17.wmf" ContentType="image/x-wmf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type.wav" ContentType="audio/x-wav"/>
  <Override PartName="/ppt/media/image15.wmf" ContentType="image/x-wmf"/>
  <Override PartName="/ppt/media/image14.wmf" ContentType="image/x-wmf"/>
  <Override PartName="/ppt/media/image13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A4E-AC06-4F22-8D3E-0552051E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280-A817-4B5A-9FDC-44DE7D05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7A2-37C4-4B57-B589-20EF56EA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CA7-0B34-4658-90B0-21A15A54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87A9-F036-475B-A51B-1FBE4F3F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172F-893C-4B21-B6B6-BF49D9C9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2C5F-EB40-46E4-B074-735B3D0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3CB6-6CE3-4932-ACB4-7DCE38E2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EADE-4785-452C-93AC-76AA37DE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0D8A-6FE3-4580-9B6B-5AE739EC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FAF8-C7B4-48A7-84D1-37A90C3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8FD-E286-4787-9CAA-0E2FE893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D17E-BB16-4E44-AC85-7CD9ADD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B285-725D-45BA-B940-5A960A64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5C08-4E9A-4788-A0B9-BD127AAE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CEA2-25DD-4249-B409-920E83A7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514D-FC3C-4DAF-B592-F808774E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75F-2369-40DC-B0B5-E20B8C31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3DE-89CB-4EE2-B659-4199E528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50E-5353-4EC1-97E0-CBC0ED09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A45-AED4-40AC-9E55-368C829B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82B-F12E-4AC1-AE6A-795A2F5E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D6F-A241-4E56-B205-61E3004B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BA0-46AD-4460-95AA-FBBFAFE5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5646-488F-4FFD-943C-68EB6A831CD3}" type="slidenum">
              <a:rPr b="1" lang="en-US" sz="20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8848-687A-463F-81CA-5D7D83312096}" type="slidenum">
              <a:rPr b="0" lang="en-US" sz="24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452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905040" algn="ctr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357560" algn="ctr">
              <a:spcBef>
                <a:spcPts val="700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4" marL="1810440" algn="ctr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5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6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3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21249600">
            <a:off x="1834920" y="623520"/>
            <a:ext cx="416880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ACKETS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95640" y="2205000"/>
            <a:ext cx="4400640" cy="3301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med">
    <p:zoom dir="out"/>
    <p:sndAc>
      <p:stSnd>
        <p:snd r:embed="rId4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56000" y="907920"/>
            <a:ext cx="6156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RACKET 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D FOR?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156384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79640" y="0"/>
            <a:ext cx="6207120" cy="24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48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 RACKET IS USED </a:t>
            </a:r>
            <a:endParaRPr b="0" lang="en-US" sz="4800" spc="1" strike="noStrike">
              <a:ln w="255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R PLAYING GAMES</a:t>
            </a:r>
            <a:endParaRPr b="0" lang="en-US" sz="4800" spc="1" strike="noStrike">
              <a:ln w="255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148360" y="2565360"/>
            <a:ext cx="3824280" cy="2870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med">
    <p:zoom dir="out"/>
    <p:sndAc>
      <p:stSnd>
        <p:snd r:embed="rId7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0" y="907920"/>
            <a:ext cx="6156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COULD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RACKET 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?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2952720" cy="2541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4032360" cy="1965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101080" y="4581360"/>
            <a:ext cx="71424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77080" y="479736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 rot="21249600">
            <a:off x="3132000" y="1557000"/>
            <a:ext cx="20894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N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7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671640" cy="36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 rot="20920200">
            <a:off x="3132000" y="1700280"/>
            <a:ext cx="28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ATE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4" name="typ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2808360" cy="2092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128000" y="98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 rot="21009600">
            <a:off x="3131640" y="1628640"/>
            <a:ext cx="381960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LEPHONE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5" name="typ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88000" y="476280"/>
            <a:ext cx="1679760" cy="252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172360" y="4365720"/>
            <a:ext cx="304920" cy="542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 rot="21249600">
            <a:off x="3132000" y="1557000"/>
            <a:ext cx="20894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EAR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6" name="typ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2881440" cy="2389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814760" cy="1703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278080" cy="18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 rot="21249600">
            <a:off x="2997360" y="1525320"/>
            <a:ext cx="295416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ILLOW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6" name="typ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1629000">
            <a:off x="5003640" y="2781360"/>
            <a:ext cx="200664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624720" y="83664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 rot="20955600">
            <a:off x="3276360" y="177300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OOM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5" name="type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82096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 rot="20979600">
            <a:off x="3133440" y="1526760"/>
            <a:ext cx="266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OON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4" name="typ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4:28:20Z</dcterms:created>
  <dc:creator>Manager</dc:creator>
  <dc:description/>
  <dc:language>en-US</dc:language>
  <cp:lastModifiedBy> </cp:lastModifiedBy>
  <dcterms:modified xsi:type="dcterms:W3CDTF">2008-05-18T14:46:53Z</dcterms:modified>
  <cp:revision>6</cp:revision>
  <dc:subject/>
  <dc:title>Slide 1</dc:title>
</cp:coreProperties>
</file>