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12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gif" ContentType="image/gif"/>
  <Override PartName="/ppt/media/image2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voltage.wav" ContentType="audio/x-wav"/>
  <Override PartName="/ppt/media/image3.wmf" ContentType="image/x-wmf"/>
  <Override PartName="/ppt/media/image4.gif" ContentType="image/gi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013-79DF-4011-B107-D86DF704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CE6-9B9C-461D-A71D-493EB22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D21-F950-478C-ACC3-C5F64DEC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3B8-3DD4-41CB-AB9C-5EB5B6AC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5FF-6120-4199-AD1D-9E0C5B2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E50-647D-421A-8587-169B2809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DE5-DB53-405A-A4C1-D4338F4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F85-A9A7-4DD7-A91F-5340BC6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EDD-28A8-449E-943F-36287D30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D13-32DE-4300-95B1-AB33333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C6A-1A67-4267-AAC1-70550911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EC8-04C0-4E3F-BA25-B0DB159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BAD-6335-412D-B3E3-A8E49922B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5084640"/>
            <a:ext cx="446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OPES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16000" y="1628640"/>
            <a:ext cx="68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OPE 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56348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03280" y="620640"/>
            <a:ext cx="640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OPE IS USED 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PLAYING GAMES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16000" y="1628640"/>
            <a:ext cx="68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OPE 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1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98960" cy="202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095640" cy="78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55640" y="537372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04000" y="3789360"/>
            <a:ext cx="208908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1280" y="2276640"/>
            <a:ext cx="855720" cy="224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 rot="21468600">
            <a:off x="2700360" y="198864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SNAKE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6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95640" y="5373720"/>
            <a:ext cx="119088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500280" cy="268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19640" y="3284640"/>
            <a:ext cx="1812600" cy="122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164360" y="4941720"/>
            <a:ext cx="180972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1809720" cy="106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 rot="21468600">
            <a:off x="1979640" y="177300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HOSE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6" name="voltag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61280" y="0"/>
            <a:ext cx="2682720" cy="287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525600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 rot="21468600">
            <a:off x="826920" y="1700280"/>
            <a:ext cx="467388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SOME SPAGHETTI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3" name="voltag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643040" cy="119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4032000" cy="319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32360" y="2276640"/>
            <a:ext cx="3708360" cy="183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 rot="21468600">
            <a:off x="1908000" y="1557000"/>
            <a:ext cx="18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BELT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4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76560" cy="112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16360" y="223848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 rot="21468600">
            <a:off x="1908000" y="1699920"/>
            <a:ext cx="18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WHIP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3" name="voltag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2952720" cy="241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022480" cy="302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 rot="21173400">
            <a:off x="2771280" y="1844280"/>
            <a:ext cx="22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926000"/>
                </a:gradFill>
                <a:latin typeface="Arial Black"/>
              </a:rPr>
              <a:t>RIVER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926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3" name="voltage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2373120" cy="1436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89360" y="2505240"/>
            <a:ext cx="15652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2492280"/>
            <a:ext cx="6022800" cy="396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 rot="21258000">
            <a:off x="899640" y="1628280"/>
            <a:ext cx="259236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842000"/>
                </a:gradFill>
                <a:latin typeface="Arial Black"/>
              </a:rPr>
              <a:t>NECKLACE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84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4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10:47Z</dcterms:created>
  <dc:creator>admin</dc:creator>
  <dc:description/>
  <dc:language>en-US</dc:language>
  <cp:lastModifiedBy> </cp:lastModifiedBy>
  <dcterms:modified xsi:type="dcterms:W3CDTF">2008-05-19T16:33:15Z</dcterms:modified>
  <cp:revision>9</cp:revision>
  <dc:subject/>
  <dc:title>Slide 1</dc:title>
</cp:coreProperties>
</file>