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9.gif" ContentType="image/gif"/>
  <Override PartName="/ppt/media/image2.png" ContentType="image/png"/>
  <Override PartName="/ppt/media/image10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DEE-DD10-4D3F-AB5C-B059CA4D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70C-5945-4AD1-9DBB-7D60F55D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536-404F-43E7-AF16-F055C36B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812-0EA1-4A18-9F3C-0E8882EA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8B97-74D9-476E-847E-E6D9296A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7DF-5141-48D7-9C5A-9AC04904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2B3-D125-4DA6-9954-7EBF8E5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CC8-CE31-4755-A775-9D6F336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314-3F79-462B-A756-7CFE3C9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92F3-81D0-47B3-95CF-12BF364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E51-BA70-45D8-B378-11C9489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E0A-6D26-4DE4-87C3-400599E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6D2-61BB-4D09-B20C-5BF03B3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2BF2-A811-4F6C-9F36-93AC435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A33B-D83E-426F-A403-9BC3FCE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F7C-D9BA-4DC0-B437-DF599909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BFF-240C-4CA5-82D0-B1188CED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4A7-76EE-44AA-9F9F-B17A79C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FC1-552E-4A54-84E5-ECBD468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67B-2A3D-4C81-A584-8C8B4D4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C11-3B0B-4839-ADBB-9C9DBFC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731-0949-4653-974F-B30A78D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2C5-F8FB-434B-9D0B-2E71CC0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ED7-9746-4EEB-8713-FCD4C59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8472d"/>
                </a:gs>
                <a:gs pos="100000">
                  <a:srgbClr val="5c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6EF1-1AB6-445D-848F-CF23A0530A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8472d"/>
                </a:gs>
                <a:gs pos="100000">
                  <a:srgbClr val="5c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2AA-A5BF-404E-A2E2-33C9E693E2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47640" y="1844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 of the BOD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19280" y="191628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 of the BODY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364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32464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4328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877080" y="2492280"/>
            <a:ext cx="144000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4033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84328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659280" y="2924280"/>
            <a:ext cx="1439640" cy="576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729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6364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2000" y="4005000"/>
            <a:ext cx="144000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4033800" cy="397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1871640" cy="1844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272360" y="2781360"/>
            <a:ext cx="1871640" cy="1844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H="1" flipV="1">
            <a:off x="8532360" y="4292640"/>
            <a:ext cx="7164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667640" y="5300640"/>
            <a:ext cx="93672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80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2920" y="189000"/>
            <a:ext cx="8893080" cy="1434600"/>
          </a:xfrm>
          <a:prstGeom prst="rect">
            <a:avLst/>
          </a:prstGeom>
          <a:solidFill>
            <a:srgbClr val="ffffff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Can you touch or move these parts of the bod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989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A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198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E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27640" y="5229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E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4076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TEE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781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149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52360" y="486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LE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3141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ING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2060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TO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4941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A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E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90920" y="907920"/>
            <a:ext cx="4212720" cy="4681440"/>
            <a:chOff x="2590920" y="907920"/>
            <a:chExt cx="4212720" cy="46814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2682720" y="907920"/>
              <a:ext cx="4120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90920" y="2001240"/>
              <a:ext cx="3601080" cy="31892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419640" y="5516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A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38890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43280" y="620640"/>
            <a:ext cx="4168800" cy="4135320"/>
            <a:chOff x="2843280" y="620640"/>
            <a:chExt cx="4168800" cy="41353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2843280" y="1306440"/>
              <a:ext cx="416880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53120" y="696960"/>
              <a:ext cx="761760" cy="21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586120" y="620640"/>
              <a:ext cx="762120" cy="19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19640" y="692280"/>
            <a:ext cx="792000" cy="223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484280"/>
            <a:ext cx="217440" cy="289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2421000"/>
            <a:ext cx="4316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43280" y="1066680"/>
            <a:ext cx="4680720" cy="4162320"/>
            <a:chOff x="2843280" y="1066680"/>
            <a:chExt cx="4680720" cy="41623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843280" y="1066680"/>
              <a:ext cx="381456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flipH="1">
              <a:off x="5736600" y="1598040"/>
              <a:ext cx="1787400" cy="70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651640" y="1484280"/>
            <a:ext cx="1944720" cy="863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95640" y="501336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O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3902040" cy="4030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56000" y="2349360"/>
            <a:ext cx="2880000" cy="1079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32720" y="3500280"/>
            <a:ext cx="1873080" cy="136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300720" y="3141720"/>
            <a:ext cx="2374920" cy="2016000"/>
          </a:xfrm>
          <a:prstGeom prst="ellipse">
            <a:avLst/>
          </a:prstGeom>
          <a:noFill/>
          <a:ln w="604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86560" y="530064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ET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916360" y="508464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148000" y="2349360"/>
            <a:ext cx="2879640" cy="1079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53992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03640" y="51577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659280" y="1484280"/>
            <a:ext cx="143964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4720" y="981000"/>
            <a:ext cx="3903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51577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00720" y="3141720"/>
            <a:ext cx="144000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311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2:58:59Z</dcterms:modified>
  <cp:revision>19</cp:revision>
  <dc:subject/>
  <dc:title>PowerPoint Presentation</dc:title>
</cp:coreProperties>
</file>